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jpeg" ContentType="image/jpeg"/>
  <Override PartName="/ppt/media/image8.jpeg" ContentType="image/jpeg"/>
  <Override PartName="/ppt/media/image12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8630-0431-45C6-9CEC-79D5224B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92FB-271D-4B22-8A72-54558441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023-417D-4327-9A2A-0B517996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43F-D623-485B-AA7D-FA389B5B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2AEF-92A2-4DCF-B2D5-FDAADFD3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3FDA-3612-4F44-AFE3-CAF7120A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AC63-7B48-4782-8D4F-2F5F2E3D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5D47-3AFB-4FEF-BA33-6C111EFC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83AA-3909-48CD-AB45-0E114D97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0637-E5F2-4A4E-9E84-EFE49186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C58D-E6AE-4A3C-8CB8-542DE1DC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2D9-0748-4E47-B26E-13B1CF5B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E3AF-9562-4F57-8904-9A02BEA2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917C-84D7-46D9-A5BC-F676FAA1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30AC-5649-4946-9F34-589ED059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070B-460C-4FDD-97CA-CC5C5953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7B1A-AD77-4E21-9BA3-68BAF2A4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4A7-3F55-417D-8243-43F5BBCE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A00-7355-4F90-B744-2FDF45CD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4194-F51F-459C-B756-EB64ABF3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A06-673D-4D99-89C5-B214B4E0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E37D-1FEF-4802-93A2-CD91C26E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F80-687B-4983-A7F9-6DDAFE05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A26E-6FEE-4B49-B2B4-02BAF7CC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FE13-8C46-4DE9-B723-11387C7DA9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C8A9-1E8A-4FBA-99D7-E75568F34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sterfixit.com/crank3.gif" TargetMode="External"/><Relationship Id="rId3" Type="http://schemas.openxmlformats.org/officeDocument/2006/relationships/image" Target="../media/image16.png"/><Relationship Id="rId4" Type="http://schemas.openxmlformats.org/officeDocument/2006/relationships/hyperlink" Target="http://www.misterfixit.com/crank1.gif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INJECTION SYSTE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543800" cy="51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663-53D5-419F-A24F-C08B9F9165C9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ns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9" name="" descr="Active Speed and Position Sensors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464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6CCE-1095-4AFD-B770-BED199DFD3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lectronic Sensors (Input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  Manifold Absolute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F   Mass Air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T   Engine Coolant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AT    Intake Air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PS   Throttle Position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SS   Vehicle Speed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2    Exhaust Oxygen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KP   Crankshaft Posi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MP  Camshaft 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S     Knock or Detonation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FCD-CB8C-4231-9045-AC0FC95753DA}" type="slidenum">
              <a:t>11</a:t>
            </a:fld>
          </a:p>
        </p:txBody>
      </p:sp>
    </p:spTree>
  </p:cSld>
  <p:transition>
    <p:blinds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anifold Absolute Pressure Sensor (MAP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difference between atmospheric pressure and intake manifold vacu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648320" cy="29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441-A026-44E0-A607-566153F7DD68}" type="slidenum">
              <a:t>12</a:t>
            </a:fld>
          </a:p>
        </p:txBody>
      </p:sp>
    </p:spTree>
  </p:cSld>
  <p:transition>
    <p:cover dir="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ass Air Flow Sensor (MAF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mass of air entering intake manifo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6200" y="1752480"/>
            <a:ext cx="4497480" cy="510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E96-EAE8-410D-AEA3-84B274AF176B}" type="slidenum">
              <a:t>13</a:t>
            </a:fld>
          </a:p>
        </p:txBody>
      </p:sp>
    </p:spTree>
  </p:cSld>
  <p:transition>
    <p:cover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rottle Position Sensor (TP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throttle angle for P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ically: it’s a potentiome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oltage signal changes as resistance in pot. chan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114800" y="3084480"/>
            <a:ext cx="518148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7DB-6D8C-4AF4-9165-323CFA2B94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gine Coolant Temperature Sensor (ECT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engines coolant temper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 mounted in engines water jack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5486400" cy="41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A3C-4D36-4396-B343-035FEC3246B4}" type="slidenum">
              <a:t>15</a:t>
            </a:fld>
          </a:p>
        </p:txBody>
      </p:sp>
    </p:spTree>
  </p:cSld>
  <p:transition>
    <p:cover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ake Air Temperature (IAT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s like CTS -measures - temperature of  intake a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 intake air temperatu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eving the precise control of the A/F ratio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7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5715000" cy="278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219D-6B8D-4A17-A831-F2DA639EC9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ehicle Speed Sensor (VS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s VEHICLE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ENGINE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93840" y="105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Vehicle Speed Sensors Offered by Stealth Conversions"/>
          <p:cNvPicPr/>
          <p:nvPr/>
        </p:nvPicPr>
        <p:blipFill>
          <a:blip r:embed="rId2"/>
          <a:stretch/>
        </p:blipFill>
        <p:spPr>
          <a:xfrm>
            <a:off x="0" y="1752480"/>
            <a:ext cx="4495680" cy="377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603-B6DA-4B58-AE59-A772F01B6F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xygen Sensor (O2 or HO2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the amount of oxygen in the exhaust stre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voltage &lt;.45 is a lean sig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voltage &gt;.45 is a rich sig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96 /newer use two O2 sens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O2 sensors are heated. ( HO2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2284560"/>
            <a:ext cx="3809880" cy="35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FF50-6F70-420A-B56F-542E6E80DF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rankshaft Position Sensor (CKP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62160" y="19807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s Notches in cranksha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3809880" cy="2149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3962520"/>
            <a:ext cx="23162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750D-1011-4AA4-BC68-370998A31D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ypes of Fuel Injection Syste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t fuel injection. (PFI/MPF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ottle Body Fuel Injection. (TB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cal or CIS injection syst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58 Corvett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uel injection (Manu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7A39-F029-4234-A98C-AECAE4AA491B}" type="slidenum">
              <a:t>2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mshaft Position Sensor (CMP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E5E-D556-4609-9098-5A761A778C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Knock Sensor (K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es detonation which the engine is run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CM will retard spark when detonation is detec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952880" cy="30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D677-BEC1-494A-8287-27DA3103F5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puter Actuators (Output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495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el Inje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AC Idle Air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el Pump Rel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P Canister Pur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GR Regul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oling Fan Rel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rque Conver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L-Malfunction Indicator Lam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A42-AAD2-49C7-90E7-3611BE781F24}" type="slidenum">
              <a:t>22</a:t>
            </a:fld>
          </a:p>
        </p:txBody>
      </p:sp>
    </p:spTree>
  </p:cSld>
  <p:transition>
    <p:cover dir="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lectronic Injection System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ctronic P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(PCM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gic dev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put data to the compu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uators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put devices the computer oper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chanical P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tan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pu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filter and l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jector or injec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ra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regula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CCDE-AB6C-4109-8B49-3B2ED34394CE}" type="slidenum">
              <a:t>3</a:t>
            </a:fld>
          </a:p>
        </p:txBody>
      </p:sp>
    </p:spTree>
  </p:cSld>
  <p:transition>
    <p:pull dir="l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lectronic Par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ctronic Part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(PCM) 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ic dev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put data to the compu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uat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put devices the computer oper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9880" y="1766880"/>
            <a:ext cx="5334120" cy="35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1615-9DC7-4CB0-A6F4-952A59E3E2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Filter and Fuel Li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k on gas pum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reen in inj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2847960"/>
            <a:ext cx="3809880" cy="23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BB02-D4C5-4761-A8DC-E0288759A2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Rail &amp; Pressure Regulato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57440" y="205704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ail - pipe that fills the injec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regulator controls the pressure to injec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adjusted for changes in intake manifold vacu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are mechanical but newer cars use an electronic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5257800" cy="32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503-265B-49D2-9DE3-1F275E83FFF9}" type="slidenum">
              <a:t>6</a:t>
            </a:fld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Injec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ject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ctrically operated val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pum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mps fuel to injector from fuel tan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s pressure against e injector’s val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triggers valve with electrical signal called a pul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pulse widt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495680" cy="21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F4B-AD35-4F0D-B999-248AEE5CCE3E}" type="slidenum">
              <a:t>7</a:t>
            </a:fld>
          </a:p>
        </p:txBody>
      </p:sp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Injector Par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2880" y="685800"/>
            <a:ext cx="3810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” Ring sea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el rai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ake manifol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enoid insid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e electrical connec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ntle Need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spray e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fuel shoots o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3081240"/>
            <a:ext cx="3809880" cy="19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6B1-D25C-42F3-8B87-11A65CC00638}" type="slidenum">
              <a:t>8</a:t>
            </a:fld>
          </a:p>
        </p:txBody>
      </p:sp>
    </p:spTree>
  </p:cSld>
  <p:transition>
    <p:zoom dir="in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he Injector Fi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mputer grounds the injector to turn i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pulse” -- “Pulse width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ses timed by crankshaft sensor (CKPS). And/or camshaft sensor (CP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ways to fire the injector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 Gang in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 Sequential in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550-07FC-4BCD-8DD9-E912F4EF77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4T19:40:53Z</dcterms:created>
  <dc:creator>A satisfied Microsoft Office User</dc:creator>
  <dc:description/>
  <dc:language>en-US</dc:language>
  <cp:lastModifiedBy>HEHS</cp:lastModifiedBy>
  <dcterms:modified xsi:type="dcterms:W3CDTF">2005-10-24T19:43:10Z</dcterms:modified>
  <cp:revision>33</cp:revision>
  <dc:subject/>
  <dc:title>FUEL INJECTION SYSTEMS</dc:title>
</cp:coreProperties>
</file>