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294A5-D9FD-4EF2-A1F3-3E0EE0BD4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4AF2C-E2B2-4A6F-9B44-B388B36F8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D00E2-C33D-4A5E-9814-28A4EC926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4D1FB-2F6D-41D4-B358-83986E0BE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B057A-4AE6-41F8-AD8E-305C031E75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F794E-4493-4C1C-83D1-72FF069F5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1A433-B56D-40B3-A86F-2F78DEF77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9F0F1-3157-47D0-9AD7-BE7DF27A3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9499F-18C3-4E55-AD6F-3410C0E97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4E867-BA59-4D66-A128-6598F7906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7ACE4-62AC-42D3-BB71-4321E3B7C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40A05-F159-4F09-AB07-A9074B0EC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4F79A-A1C7-4AF3-8060-67279423F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5A034-C503-4065-8098-920A2FB36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F5826-E557-4863-93AA-74E50191D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16311-3E4B-4944-B77E-166C82A6E3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4"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71D863-6C7B-4553-B518-14CA3156D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DC08E-A6D1-461A-911A-E17E392B2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65E1B-8B58-4782-85BB-2C4A92416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66157-D245-4746-8E73-B3940777E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65673-E80F-4546-8210-5C8F109A6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BE3DB-2005-4EEC-A1B6-6DD311B97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6D6B8-48F9-477C-91FD-FCCA37A21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08784-9776-44AD-B6B0-2522625CF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0"/>
              <a:ext cx="9144000" cy="1905120"/>
            </a:xfrm>
            <a:custGeom>
              <a:avLst/>
              <a:gdLst/>
              <a:ahLst/>
              <a:rect l="l" t="t" r="r" b="b"/>
              <a:pathLst>
                <a:path w="5760" h="1200">
                  <a:moveTo>
                    <a:pt x="0" y="0"/>
                  </a:moveTo>
                  <a:lnTo>
                    <a:pt x="1008" y="1200"/>
                  </a:lnTo>
                  <a:lnTo>
                    <a:pt x="5760" y="336"/>
                  </a:lnTo>
                  <a:lnTo>
                    <a:pt x="5760" y="0"/>
                  </a:lnTo>
                  <a:lnTo>
                    <a:pt x="0" y="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 name="PlaceHolder 2"/>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 name="PlaceHolder 3"/>
          <p:cNvSpPr>
            <a:spLocks noGrp="1"/>
          </p:cNvSpPr>
          <p:nvPr>
            <p:ph type="dt" idx="1"/>
          </p:nvPr>
        </p:nvSpPr>
        <p:spPr>
          <a:xfrm>
            <a:off x="1600200" y="640080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E524-DE01-4E79-8AE1-E3171BA5ACEA}"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0" y="0"/>
              <a:ext cx="9144000" cy="3809880"/>
            </a:xfrm>
            <a:custGeom>
              <a:avLst/>
              <a:gdLst/>
              <a:ahLst/>
              <a:rect l="l" t="t" r="r" b="b"/>
              <a:pathLst>
                <a:path w="5760" h="2400">
                  <a:moveTo>
                    <a:pt x="0" y="1200"/>
                  </a:moveTo>
                  <a:lnTo>
                    <a:pt x="1008" y="2400"/>
                  </a:lnTo>
                  <a:lnTo>
                    <a:pt x="5760" y="1536"/>
                  </a:lnTo>
                  <a:lnTo>
                    <a:pt x="5760" y="0"/>
                  </a:lnTo>
                  <a:lnTo>
                    <a:pt x="0" y="0"/>
                  </a:lnTo>
                  <a:lnTo>
                    <a:pt x="0" y="120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0" name="PlaceHolder 2"/>
          <p:cNvSpPr>
            <a:spLocks noGrp="1"/>
          </p:cNvSpPr>
          <p:nvPr>
            <p:ph type="dt" idx="4"/>
          </p:nvPr>
        </p:nvSpPr>
        <p:spPr>
          <a:xfrm>
            <a:off x="1676160" y="6400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187C7-11C3-4FAC-9054-B313241FA650}"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used in EFI (Electronic Fuel Injection)</a:t>
            </a:r>
            <a:endParaRPr b="0" lang="en-US" sz="4400" spc="-1" strike="noStrike">
              <a:solidFill>
                <a:srgbClr val="000000"/>
              </a:solidFill>
              <a:latin typeface="Tahoma"/>
            </a:endParaRPr>
          </a:p>
        </p:txBody>
      </p:sp>
      <p:sp>
        <p:nvSpPr>
          <p:cNvPr id="91"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 Shahin H. Berisha</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eWay Community College</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oenix, Arizona, U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77000"/>
          </a:bodyPr>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ne Air Flow Meter - consist on the:</a:t>
            </a:r>
            <a:endParaRPr b="0" lang="en-US" sz="32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loaded measuring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entiometer attached to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lume of the air determines the position of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tion of the plate determines the value of the resistance on the potentiometer,</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resistance determines the output voltage of the sensor that goes to ECU</a:t>
            </a:r>
            <a:endParaRPr b="0" lang="en-US" sz="2800" spc="-1" strike="noStrike">
              <a:solidFill>
                <a:srgbClr val="ffffff"/>
              </a:solidFill>
              <a:latin typeface="Tahoma"/>
            </a:endParaRPr>
          </a:p>
          <a:p>
            <a:pPr lvl="1" marL="572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ir flow generates variable frequency digital sign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quency of the digital signal is proportional to air flow</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1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ahs three elem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put Senso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U (a microprocesso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pu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First Design Air Flow Meter</a:t>
            </a:r>
            <a:endParaRPr b="0" lang="en-US" sz="3200" spc="-1" strike="noStrike">
              <a:solidFill>
                <a:srgbClr val="000000"/>
              </a:solidFill>
              <a:latin typeface="Tahoma"/>
            </a:endParaRPr>
          </a:p>
        </p:txBody>
      </p:sp>
      <p:sp>
        <p:nvSpPr>
          <p:cNvPr id="11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four of which are used for air flow 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voltage because main vehicle battery V</a:t>
            </a:r>
            <a:r>
              <a:rPr b="0" lang="en-US" sz="2800" spc="-1" strike="noStrike" baseline="-25000">
                <a:solidFill>
                  <a:srgbClr val="ffffff"/>
                </a:solidFill>
                <a:latin typeface="Tahoma"/>
              </a:rPr>
              <a:t>b</a:t>
            </a:r>
            <a:r>
              <a:rPr b="0" lang="en-US" sz="2800" spc="-1" strike="noStrike">
                <a:solidFill>
                  <a:srgbClr val="ffffff"/>
                </a:solidFill>
                <a:latin typeface="Tahoma"/>
              </a:rPr>
              <a:t> may change with the l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Second Design Air Flow Meter</a:t>
            </a:r>
            <a:endParaRPr b="0" lang="en-US" sz="3200" spc="-1" strike="noStrike">
              <a:solidFill>
                <a:srgbClr val="000000"/>
              </a:solidFill>
              <a:latin typeface="Tahoma"/>
            </a:endParaRPr>
          </a:p>
        </p:txBody>
      </p:sp>
      <p:sp>
        <p:nvSpPr>
          <p:cNvPr id="11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three of which are used for air flow mete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 (r</a:t>
            </a:r>
            <a:r>
              <a:rPr b="0" lang="en-US" sz="2800" spc="-1" strike="noStrike" baseline="-25000">
                <a:solidFill>
                  <a:srgbClr val="ffffff"/>
                </a:solidFill>
                <a:latin typeface="Tahoma"/>
              </a:rPr>
              <a:t>1</a:t>
            </a:r>
            <a:r>
              <a:rPr b="0" lang="en-US" sz="2800" spc="-1" strike="noStrike">
                <a:solidFill>
                  <a:srgbClr val="ffffff"/>
                </a:solidFill>
                <a:latin typeface="Tahoma"/>
              </a:rPr>
              <a:t> and r</a:t>
            </a:r>
            <a:r>
              <a:rPr b="0" lang="en-US" sz="2800" spc="-1" strike="noStrike" baseline="-25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and a regulated 5V is used instead of V</a:t>
            </a:r>
            <a:r>
              <a:rPr b="0" lang="en-US" sz="2800" spc="-1" strike="noStrike" baseline="-25000">
                <a:solidFill>
                  <a:srgbClr val="ffffff"/>
                </a:solidFill>
                <a:latin typeface="Tahoma"/>
              </a:rPr>
              <a:t>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Karman Vortex Air Flow Meter</a:t>
            </a:r>
            <a:endParaRPr b="0" lang="en-US" sz="3200" spc="-1" strike="noStrike">
              <a:solidFill>
                <a:srgbClr val="000000"/>
              </a:solidFill>
              <a:latin typeface="Tahoma"/>
            </a:endParaRPr>
          </a:p>
        </p:txBody>
      </p:sp>
      <p:sp>
        <p:nvSpPr>
          <p:cNvPr id="12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hotocoupler and a mirr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vortex generat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IC</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ir passes through the air flow meter, the vortex generator produces digital signal</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quency of this signal is proportional to the velocity of a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Manifold Absolute Pressure Sensor</a:t>
            </a:r>
            <a:br>
              <a:rPr sz="3200"/>
            </a:br>
            <a:r>
              <a:rPr b="0" lang="en-US" sz="3200" spc="-1" strike="noStrike">
                <a:solidFill>
                  <a:srgbClr val="000000"/>
                </a:solidFill>
                <a:latin typeface="Tahoma"/>
              </a:rPr>
              <a:t>or vacuum sensor</a:t>
            </a:r>
            <a:endParaRPr b="0" lang="en-US" sz="3200" spc="-1" strike="noStrike">
              <a:solidFill>
                <a:srgbClr val="000000"/>
              </a:solidFill>
              <a:latin typeface="Tahoma"/>
            </a:endParaRPr>
          </a:p>
        </p:txBody>
      </p:sp>
      <p:sp>
        <p:nvSpPr>
          <p:cNvPr id="12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measures intake air volum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st of a piezoelectric silicon chip and an IC</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ing the perfect vacuum and pressure in the intake manifold, the resistance of the silicon chip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 in the resistance causes change in signal voltage at PIM (Pressure Intake Mainfold) on the circui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ater Temperature Sensor </a:t>
            </a:r>
            <a:endParaRPr b="0" lang="en-US" sz="4400" spc="-1" strike="noStrike">
              <a:solidFill>
                <a:srgbClr val="000000"/>
              </a:solidFill>
              <a:latin typeface="Tahoma"/>
            </a:endParaRPr>
          </a:p>
        </p:txBody>
      </p:sp>
      <p:sp>
        <p:nvSpPr>
          <p:cNvPr id="12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monitors engine coolant temperature by a thermistor with a negative temperature coefficien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mistor is part of a circuit in which a voltage drop across this thermistor is monitored by ECU</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emperature goes up voltage goes down (see figure) - negative temperature coefficien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ir Temperature Sensor</a:t>
            </a:r>
            <a:endParaRPr b="0" lang="en-US" sz="4400" spc="-1" strike="noStrike">
              <a:solidFill>
                <a:srgbClr val="000000"/>
              </a:solidFill>
              <a:latin typeface="Tahoma"/>
            </a:endParaRPr>
          </a:p>
        </p:txBody>
      </p:sp>
      <p:sp>
        <p:nvSpPr>
          <p:cNvPr id="12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s the temperature of air entering intake manifold by means of thermist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has identical characteristics as a water temperature sens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needed because the pressure and the density of air changes with temperatu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On-Off Type Sensor</a:t>
            </a:r>
            <a:endParaRPr b="0" lang="en-US" sz="3200" spc="-1" strike="noStrike">
              <a:solidFill>
                <a:srgbClr val="000000"/>
              </a:solidFill>
              <a:latin typeface="Tahoma"/>
            </a:endParaRPr>
          </a:p>
        </p:txBody>
      </p:sp>
      <p:sp>
        <p:nvSpPr>
          <p:cNvPr id="12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simple switch device that either pulls a reference voltage to ground (V = 0) - PSW position on the circuit or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s a battery voltage signal to ECU - IDL position on the circui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witching action causes the voltage signal to ECU to go high when the switch contact are clos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EFI?</a:t>
            </a:r>
            <a:endParaRPr b="0" lang="en-US" sz="4400" spc="-1" strike="noStrike">
              <a:solidFill>
                <a:srgbClr val="000000"/>
              </a:solidFill>
              <a:latin typeface="Tahoma"/>
            </a:endParaRPr>
          </a:p>
        </p:txBody>
      </p:sp>
      <p:sp>
        <p:nvSpPr>
          <p:cNvPr id="9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I is a way of delivering fuel to the engine by electronically controlling injection directly into the intake manifold near the intake val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Linear Throttle Position Sensor</a:t>
            </a:r>
            <a:endParaRPr b="0" lang="en-US" sz="3200" spc="-1" strike="noStrike">
              <a:solidFill>
                <a:srgbClr val="000000"/>
              </a:solidFill>
              <a:latin typeface="Tahoma"/>
            </a:endParaRPr>
          </a:p>
        </p:txBody>
      </p:sp>
      <p:sp>
        <p:nvSpPr>
          <p:cNvPr id="13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he throttle opens, a potentiometer circuit converts the mechanical movement of the throttle valve into a variable voltage signal,</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utput voltage VTA is proportional with the throttle opening ang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xygen Sensors</a:t>
            </a:r>
            <a:endParaRPr b="0" lang="en-US" sz="4400" spc="-1" strike="noStrike">
              <a:solidFill>
                <a:srgbClr val="000000"/>
              </a:solidFill>
              <a:latin typeface="Tahoma"/>
            </a:endParaRPr>
          </a:p>
        </p:txBody>
      </p:sp>
      <p:sp>
        <p:nvSpPr>
          <p:cNvPr id="13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haust oxygen sensors are used to provide air/fuel ratio feedback information 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d on this information the ratio/fuel is adjusted continuously - Closed Loop</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dea is used in a cruise control driving</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loop is open no information is fed in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located near the exhaust and operates at temperatures above 750</a:t>
            </a:r>
            <a:r>
              <a:rPr b="0" lang="en-US" sz="2800" spc="-1" strike="noStrike" baseline="30000">
                <a:solidFill>
                  <a:srgbClr val="ffffff"/>
                </a:solidFill>
                <a:latin typeface="Tahoma"/>
              </a:rPr>
              <a:t>o</a:t>
            </a:r>
            <a:r>
              <a:rPr b="0" lang="en-US" sz="2800" spc="-1" strike="noStrike">
                <a:solidFill>
                  <a:srgbClr val="ffffff"/>
                </a:solidFill>
                <a:latin typeface="Tahoma"/>
              </a:rPr>
              <a:t>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Zirconium Dioxide Sensor</a:t>
            </a:r>
            <a:endParaRPr b="0" lang="en-US" sz="4400" spc="-1" strike="noStrike">
              <a:solidFill>
                <a:srgbClr val="000000"/>
              </a:solidFill>
              <a:latin typeface="Tahoma"/>
            </a:endParaRPr>
          </a:p>
        </p:txBody>
      </p:sp>
      <p:sp>
        <p:nvSpPr>
          <p:cNvPr id="13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Electro-mechanical device that compares the oxygen content of the exhaust stream with the oxygen in an ambient air sample,</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ensor act as a battery cell with two electrodes,</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put voltage is very small,</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ph shows that if air/fuel ratio is very little below or above the proper value of 14.7:1 the voltage output jumps sharply,</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n indicator for microcomputer to activate closed loo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itania Oxygen Sensor</a:t>
            </a:r>
            <a:endParaRPr b="0" lang="en-US" sz="4400" spc="-1" strike="noStrike">
              <a:solidFill>
                <a:srgbClr val="000000"/>
              </a:solidFill>
              <a:latin typeface="Tahoma"/>
            </a:endParaRPr>
          </a:p>
        </p:txBody>
      </p:sp>
      <p:sp>
        <p:nvSpPr>
          <p:cNvPr id="13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variable resis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value of the resistance changes as the oxygen concentration of the exhaust gas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R changes, the signal voltage at the ECU also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ilar to Zirconium Sesnor, the output voltage changes rapidly if air/fuel ratio is chang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nock Sensor</a:t>
            </a:r>
            <a:endParaRPr b="0" lang="en-US" sz="4400" spc="-1" strike="noStrike">
              <a:solidFill>
                <a:srgbClr val="000000"/>
              </a:solidFill>
              <a:latin typeface="Tahoma"/>
            </a:endParaRPr>
          </a:p>
        </p:txBody>
      </p:sp>
      <p:sp>
        <p:nvSpPr>
          <p:cNvPr id="13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piezoelectric device that produces an output voltage under the vibration,</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mplitude and the frequency of vibration varies with the intensity of knock,</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ne type of sensor the highest voltage output occurs around vibration with a frequency of 7 kHz</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variable frequency sensor is fed into EC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titude Sensor</a:t>
            </a:r>
            <a:endParaRPr b="0" lang="en-US" sz="4400" spc="-1" strike="noStrike">
              <a:solidFill>
                <a:srgbClr val="000000"/>
              </a:solidFill>
              <a:latin typeface="Tahoma"/>
            </a:endParaRPr>
          </a:p>
        </p:txBody>
      </p:sp>
      <p:sp>
        <p:nvSpPr>
          <p:cNvPr id="14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itude is measured based on the oxygen density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nsity of oxygen in the atmosphere is lower at high altitude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sor measures the atmospheric pressure which is a function of density</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higher altitudes the injection duration is short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istory of EFI</a:t>
            </a:r>
            <a:endParaRPr b="0" lang="en-US" sz="4400" spc="-1" strike="noStrike">
              <a:solidFill>
                <a:srgbClr val="000000"/>
              </a:solidFill>
              <a:latin typeface="Tahoma"/>
            </a:endParaRPr>
          </a:p>
        </p:txBody>
      </p:sp>
      <p:sp>
        <p:nvSpPr>
          <p:cNvPr id="95"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buretors are used to mix air and fuel,</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979/80 Toyota introduced EFI,</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991 the carburetor is eliminated,</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sons for switch:</a:t>
            </a:r>
            <a:endParaRPr b="0" lang="en-US" sz="32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ior emissions control,</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ter fuel economy,</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vehicle perform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EFI Works?</a:t>
            </a:r>
            <a:endParaRPr b="0" lang="en-US" sz="4400" spc="-1" strike="noStrike">
              <a:solidFill>
                <a:srgbClr val="000000"/>
              </a:solidFill>
              <a:latin typeface="Tahoma"/>
            </a:endParaRPr>
          </a:p>
        </p:txBody>
      </p:sp>
      <p:sp>
        <p:nvSpPr>
          <p:cNvPr id="9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three sub-systems in EFI</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uel delivery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duction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lectronic control syst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uel Delivery System</a:t>
            </a:r>
            <a:endParaRPr b="0" lang="en-US" sz="4400" spc="-1" strike="noStrike">
              <a:solidFill>
                <a:srgbClr val="000000"/>
              </a:solidFill>
              <a:latin typeface="Tahoma"/>
            </a:endParaRPr>
          </a:p>
        </p:txBody>
      </p:sp>
      <p:sp>
        <p:nvSpPr>
          <p:cNvPr id="99"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tank,</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ump,</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filte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delivery pipe,</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ressure regulator, and</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return pip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Air Induction System</a:t>
            </a:r>
            <a:endParaRPr b="0" lang="en-US" sz="4400" spc="-1" strike="noStrike">
              <a:solidFill>
                <a:srgbClr val="000000"/>
              </a:solidFill>
              <a:latin typeface="Tahoma"/>
            </a:endParaRPr>
          </a:p>
        </p:txBody>
      </p:sp>
      <p:sp>
        <p:nvSpPr>
          <p:cNvPr id="101"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clean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MET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ttle valv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take chamb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manifold runner, a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val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0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ious engine SENSORS,</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nic Control Unit (ECU),</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 assemblies, and related wiring</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CU determines precisely how much fuel needs to be delivered by the injector based on the engine SENSORS output. Injector is turned On for the precise amount of time to deliver proper air/fuel ratio to the eng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sic Operation of ECU System</a:t>
            </a:r>
            <a:endParaRPr b="0" lang="en-US" sz="4400" spc="-1" strike="noStrike">
              <a:solidFill>
                <a:srgbClr val="000000"/>
              </a:solidFill>
              <a:latin typeface="Tahoma"/>
            </a:endParaRPr>
          </a:p>
        </p:txBody>
      </p:sp>
      <p:sp>
        <p:nvSpPr>
          <p:cNvPr id="105" name="PlaceHolder 2"/>
          <p:cNvSpPr>
            <a:spLocks noGrp="1"/>
          </p:cNvSpPr>
          <p:nvPr>
            <p:ph/>
          </p:nvPr>
        </p:nvSpPr>
        <p:spPr>
          <a:xfrm>
            <a:off x="126648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ir enters the engine and then measured by the AIR FLOW METE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 the air flows into cylinder, fuel is mixed into the air by injecto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CU pulses the injector On and OFF. When it is ON just enough spraying of fuel occurs, to ensure ideal air /fuel ratio 14.7:1</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6" name="PlaceHolder 3"/>
          <p:cNvSpPr>
            <a:spLocks noGrp="1"/>
          </p:cNvSpPr>
          <p:nvPr>
            <p:ph/>
          </p:nvPr>
        </p:nvSpPr>
        <p:spPr>
          <a:xfrm>
            <a:off x="522900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CU Control delivers precise amount of fuel  to the engine,</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injection quantity depend on variables such as:</a:t>
            </a:r>
            <a:endParaRPr b="0" lang="en-US" sz="20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olant temperatur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gine speed (rp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rottle angl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haust oxygen cont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dvantages of EFI</a:t>
            </a:r>
            <a:endParaRPr b="0" lang="en-US" sz="4400" spc="-1" strike="noStrike">
              <a:solidFill>
                <a:srgbClr val="000000"/>
              </a:solidFill>
              <a:latin typeface="Tahoma"/>
            </a:endParaRPr>
          </a:p>
        </p:txBody>
      </p:sp>
      <p:sp>
        <p:nvSpPr>
          <p:cNvPr id="10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form Air/Fuel Mixture Distribution (each cylinder has its own injec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accurate Air/Fuel Ratio Control (better vehicle performance, better fuel economy, and emissions control)</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 throttle respons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Cold Engine Startability Operation (Starting the vehicle at lower temperatur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9T22:22:16Z</dcterms:created>
  <dc:creator>Shahin H.  Berisha</dc:creator>
  <dc:description/>
  <dc:language>en-US</dc:language>
  <cp:lastModifiedBy>Shahin H. Berisha</cp:lastModifiedBy>
  <cp:lastPrinted>1998-05-18T17:18:12Z</cp:lastPrinted>
  <dcterms:modified xsi:type="dcterms:W3CDTF">1998-06-08T00:21:57Z</dcterms:modified>
  <cp:revision>14</cp:revision>
  <dc:subject/>
  <dc:title>Sensors used in EFI (Electronic Fuel Injection)</dc:title>
</cp:coreProperties>
</file>