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A7D-96DA-40EC-B7E3-88FB9E78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2CA-D70C-4CF4-A7FE-C9E90CC3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8EA-E61F-4172-976C-9CE7B500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7AA-4013-4D55-95EE-3D2B0100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DF7A-5468-4B8E-9EF3-1B31F2F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E36D-5F62-4631-B2EF-004F6532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9AAA-AFAA-4102-B545-42A95F1D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424B-C98D-4320-8058-5CE5B41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9FB6-06AA-4D45-ABFF-80C5BEC9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7C7D-9101-447B-996E-DA347F2E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05F2-0EA6-4E62-8973-174B27AB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4B4-2678-4275-85E7-CE40ED2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38CE-F193-41B6-9EA7-4806A1A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323-7EE0-45D3-A112-CE3A7D6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206A-B4C1-43D1-8631-DD2BE6F3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8244-3CA0-4364-A22E-756FA442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A99C-894E-4083-8179-BDB326C1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169-8CE7-43FA-BC3E-9F5B8E8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774-AECE-47D0-B90B-F5CECB33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581-0D09-4FA1-99C0-44130C6C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4E3-B800-4D94-B462-4515621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B83-D663-421E-8C3F-4A6342BE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0CA-7A6C-4148-AD45-1EF2E1F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299-AB8E-47C5-838E-3229818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B9D-4315-4B8B-BD92-5B38E30F485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4CD9-62FA-479D-9B81-768B631609A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landers</cp:lastModifiedBy>
  <dcterms:modified xsi:type="dcterms:W3CDTF">2008-06-23T20:46:34Z</dcterms:modified>
  <cp:revision>4</cp:revision>
  <dc:subject/>
  <dc:title>FUEL INJECTOR  DIAGNOSIS</dc:title>
</cp:coreProperties>
</file>