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509-6FFD-417C-88F8-36FEA833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DC4-2526-48B0-BAE5-07E2E36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18F-689F-4397-9E40-D5E04890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396-E5C0-4F2D-B9F9-0C8A095E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29E-468C-4308-934C-8FDE4F5C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8DC-6ED8-42E3-9F5B-35C7DD38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A07-DB55-4B2C-A8A7-D13E3D76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F46-0DEA-4A09-B679-DF7D154C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9B25-B844-4877-80A7-14D0F117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A8A0-69C9-48C0-A217-79992190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E7CD-F9D5-4BED-B512-CD51364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063-3A83-46CC-AA2B-A6F9DD09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4CA3-C4A9-400E-B7F2-AC56265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5CA-C992-4941-8D63-E9EB9F7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DB92-D366-4FDE-B651-9756EFEA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87AC-13C4-4C52-948D-D95C9325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506D-4561-4A72-9D46-E14DF87D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9C5-CFB6-443E-9478-4C9F646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758-4742-40A3-BA31-1B7E72E0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1F5-D63F-4487-86F7-2D48813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821-8CC4-4875-8BF5-0D91813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EA3-9FDB-45AB-BA9D-41C897F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3D3-F42E-41F5-8A87-DC48411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BF7-AEDA-4441-AF24-4439D89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42A-1F79-46EB-BF95-6A61EE15F91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BAFD-0666-492A-A291-69A64642998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MANU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INJ_BPNP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TEXTRONX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INJ_B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INJP&amp;H1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INJ_JEEP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INJ_BP-H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richj</cp:lastModifiedBy>
  <dcterms:modified xsi:type="dcterms:W3CDTF">1998-10-26T02:44:12Z</dcterms:modified>
  <cp:revision>2</cp:revision>
  <dc:subject/>
  <dc:title>FUEL INJECTOR  DIAGNOSIS</dc:title>
</cp:coreProperties>
</file>