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12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F9B-B6F9-4AD0-BDD2-10379DCF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723-DD41-4BCD-A04B-D6160A29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85A-2186-40CE-8BA5-FFDD094A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73D-850B-49DE-926B-7EEA2F20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1E1A-07FB-4A5F-BA50-6D1960F7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0D8B-8117-4160-967B-B9AC9A1F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5F96-13FC-433A-9F5A-B713CE57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2855-FA01-4FDA-9610-D65437A3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3DD7-CAB9-476D-8CAB-A929E914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23C1-D87A-4410-A08F-932CD6A7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1DE4-2814-4FAF-ADC7-721FE96A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2C9-5EE0-4B03-8E0E-58A63E57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36C3-7D88-43F5-97C1-6B4ED57D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5A4A-C792-4F8D-B697-193A32CC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FB71-B30F-4549-BF00-0C3FDF72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AC3B-735A-464C-8B2E-781E3D18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4CBB-B9CA-40AC-909A-9BCA403A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2E2-2D38-4210-9501-C7EA2637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F0F-596B-4313-A8CA-07081863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851-50C6-499F-A511-3B10729D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577-5307-4438-AD9C-2E81B843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0C4-9018-4004-A813-DCA22863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072-9E72-46AF-AEF4-3ACB046B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F64-5B63-45BA-8EF1-9245A730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C044-2EB9-4440-8866-D4CC2B945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4420-F012-4B7D-B09B-6C41F29B5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sterfixit.com/crank3.gif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www.misterfixit.com/crank1.gif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54380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F10-5D9C-4B4A-A4DB-29A3614D1765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ns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Active Speed and Position Sensors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276-7E69-4D1A-A44F-8BD98E1AE3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Sensors (In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  Manifold Absolute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F   Mass Air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T   Engine Coolant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T    Intake Air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PS   Throttle Posi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SS   Vehicle Speed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2    Exhaust Oxyge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KP   Crankshaft Posi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P  Camshaft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S     Knock or Detona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2B1-8F06-4FC9-B155-DA721521523E}" type="slidenum">
              <a:t>11</a:t>
            </a:fld>
          </a:p>
        </p:txBody>
      </p:sp>
    </p:spTree>
  </p:cSld>
  <p:transition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nifold Absolute Pressure Sensor (MA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difference between atmospheric pressure and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648320" cy="29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0FC-FC8E-4830-908C-3D12FE22D098}" type="slidenum">
              <a:t>12</a:t>
            </a:fld>
          </a:p>
        </p:txBody>
      </p:sp>
    </p:spTree>
  </p:cSld>
  <p:transition>
    <p:cover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ss Air Flow Sensor (MAF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mass of air entering intake manifo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200" y="1752480"/>
            <a:ext cx="449748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D6E-15AD-47CE-BA99-E904B9AFC6C8}" type="slidenum">
              <a:t>13</a:t>
            </a:fld>
          </a:p>
        </p:txBody>
      </p:sp>
    </p:spTree>
  </p:cSld>
  <p:transition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ottle Position Sensor (TP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rottle angle for P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ically: it’s a potentiome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ltage signal changes as resistance in pot. chan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14800" y="3084480"/>
            <a:ext cx="518148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EE3-2810-43D3-85C0-17FE3EF7DD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gine Coolant Temperature Sensor (EC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engines coolant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 mounted in engines water jac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548640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03E-F24A-4C22-B8AF-DC0CFA1B9B89}" type="slidenum">
              <a:t>15</a:t>
            </a:fld>
          </a:p>
        </p:txBody>
      </p:sp>
    </p:spTree>
  </p:cSld>
  <p:transition>
    <p:cover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ake Air Temperature (IA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 like CTS -measures - temperature of  intake 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intake air tempera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eving the precise control of the A/F ratio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5715000" cy="27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60C-B71B-4F28-A012-75E769F69D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ehicle Speed Sensor (VS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s VEHICL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GIN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93840" y="105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Vehicle Speed Sensors Offered by Stealth Conversions"/>
          <p:cNvPicPr/>
          <p:nvPr/>
        </p:nvPicPr>
        <p:blipFill>
          <a:blip r:embed="rId2"/>
          <a:stretch/>
        </p:blipFill>
        <p:spPr>
          <a:xfrm>
            <a:off x="0" y="1752480"/>
            <a:ext cx="4495680" cy="377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4BB-83DA-4F22-8FFB-04EF76C42F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xygen Sensor (O2 or HO2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e amount of oxygen in the exhaust str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voltage &lt;.45 is a lean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voltage &gt;.45 is a rich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6 /newer use two O2 sens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2 sensors are heated. ( HO2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2284560"/>
            <a:ext cx="3809880" cy="35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16E-690D-4635-A9DE-5C6DE59F94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ankshaft Position Sensor (CK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Notches in cranksha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809880" cy="2149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3962520"/>
            <a:ext cx="23162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636-F98E-440F-8FD6-1D5C973201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ypes of 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 fuel injection. (PFI/MPF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ttle Body Fuel Injection. (TB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cal or CIS injection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58 Corvett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el injection (Manu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0AC-949E-4270-8193-DF6EF756E90B}" type="slidenum">
              <a:t>2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mshaft Position Sensor (CM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456-88BE-48D0-B380-6059B2B7DA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nock Sensor (K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es detonation which the engine is run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CM will retard spark when detonation is detec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95288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B6A-99AB-4068-AE7B-95AC89A55B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puter Actuators (Out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Inje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AC Idle Air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Pump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P Canister Pur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R Regu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ling Fan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rque Conver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-Malfunction Indicator L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01F-9447-4409-A9EF-8F4E5D59285A}" type="slidenum">
              <a:t>22</a:t>
            </a:fld>
          </a:p>
        </p:txBody>
      </p:sp>
    </p:spTree>
  </p:cSld>
  <p:transition>
    <p:cover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Injection System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chanical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tan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filter and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 or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ra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B33-5881-43E1-BF76-B0D4CA02F270}" type="slidenum">
              <a:t>3</a:t>
            </a:fld>
          </a:p>
        </p:txBody>
      </p:sp>
    </p:spTree>
  </p:cSld>
  <p:transition>
    <p:pull dir="l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9880" y="1766880"/>
            <a:ext cx="533412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F1A-AE9E-4D5C-A4FE-24249ECE83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Filter and Fuel Li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k on gas pum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in inj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2847960"/>
            <a:ext cx="380988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AEF-9CF9-45E9-A885-E3A3156ECD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Rail &amp; Pressure Regulat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5744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il - pipe that fills the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 controls the pressure to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adjusted for changes in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are mechanical but newer cars use an electronic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5257800" cy="32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12E-3F25-4815-B7F5-27E91A817054}" type="slidenum">
              <a:t>6</a:t>
            </a:fld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rically operated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mps fuel to injector from fuel tan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s pressure against e injector’s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triggers valve with electrical signal called a pul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pulse wid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49568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068-1E81-4C3F-A79B-E5F245FDFA4B}" type="slidenum">
              <a:t>7</a:t>
            </a:fld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685800"/>
            <a:ext cx="3810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” Ring sea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rai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ake manifo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enoid insid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 electrical conne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tle Need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spray e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fuel shoots 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3081240"/>
            <a:ext cx="380988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A15-047B-408F-A8DD-743E0652081F}" type="slidenum">
              <a:t>8</a:t>
            </a:fld>
          </a:p>
        </p:txBody>
      </p:sp>
    </p:spTree>
  </p:cSld>
  <p:transition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he Injector Fi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mputer grounds the injector to turn i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pulse” -- “Pulse widt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ses timed by crankshaft sensor (CKPS). And/or camshaft sensor (CP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ways to fire the injecto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Gang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Sequential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FB9-4494-4A6C-B328-0F5508E156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19:40:53Z</dcterms:created>
  <dc:creator>A satisfied Microsoft Office User</dc:creator>
  <dc:description/>
  <dc:language>en-US</dc:language>
  <cp:lastModifiedBy>HEHS</cp:lastModifiedBy>
  <dcterms:modified xsi:type="dcterms:W3CDTF">2005-10-24T19:43:10Z</dcterms:modified>
  <cp:revision>33</cp:revision>
  <dc:subject/>
  <dc:title>FUEL INJECTION SYSTEMS</dc:title>
</cp:coreProperties>
</file>