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6.gif" ContentType="image/gif"/>
  <Override PartName="/ppt/media/image13.jpeg" ContentType="image/jpeg"/>
  <Override PartName="/ppt/media/image8.jpeg" ContentType="image/jpeg"/>
  <Override PartName="/ppt/media/image12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jpeg" ContentType="image/jpeg"/>
  <Override PartName="/ppt/media/image15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675F-E7A1-4FE2-8D48-BCFDE452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1070-6F64-43EF-926C-7D02124B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E125-8DD2-439B-B65D-03AB6B6A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1D8D-BBA1-4F21-8E28-1AC6D7B0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FADF-E51A-4F1D-936E-F9517F25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8E1F-12BD-4E3F-8397-D79EA957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C299-350B-49A3-A401-2BF1BD33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DD43-3EA6-4D22-97DD-79B81A34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5834-9133-432D-8D42-0A9C6E4C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407D-6259-4FA7-8129-47BB1760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4740-7947-441D-93E6-38544B31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E563-418C-4358-B657-BBEDF59A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DD62-BB7E-4D89-B133-A31608CA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2BD1-5C9D-471B-86F6-5EEE05C0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58B5-56C8-4FB4-9562-BDF07BF1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6BD1-B8D9-4610-A97F-2F9BCC4C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C969-2B9E-4086-B983-6DD46761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3397-5AE3-4C18-9C90-744C066D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96AD-0E1E-4620-BE9E-E602583B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116F-142C-46FB-910B-85BB9201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88B-51D0-464B-B1A6-3715B0AB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FA49-B658-4B5C-B178-CA6F10E8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44F5-738C-4C0B-9B4A-4336786A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2DD5-1FCB-4344-8DB4-E1D7092D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E208-EB9A-489C-8E67-DE8F50B998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3729-98A4-4E1B-AD98-F0FB7CF0D0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isterfixit.com/crank3.gif" TargetMode="External"/><Relationship Id="rId3" Type="http://schemas.openxmlformats.org/officeDocument/2006/relationships/image" Target="../media/image16.png"/><Relationship Id="rId4" Type="http://schemas.openxmlformats.org/officeDocument/2006/relationships/hyperlink" Target="http://www.misterfixit.com/crank1.gif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INJECTION SYSTE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7543800" cy="51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A9F5-8CCF-4B52-8407-771408EFE61A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ns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9" name="" descr="Active Speed and Position Sensors"/>
          <p:cNvPicPr/>
          <p:nvPr/>
        </p:nvPicPr>
        <p:blipFill>
          <a:blip r:embed="rId2"/>
          <a:stretch/>
        </p:blipFill>
        <p:spPr>
          <a:xfrm>
            <a:off x="0" y="1905120"/>
            <a:ext cx="9144000" cy="464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E53A-D035-4533-AC10-C5E7351E48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lectronic Sensors (Input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  Manifold Absolute Pres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F   Mass Air F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T   Engine Coolant Temp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AT    Intake Air Temp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PS   Throttle Position Sen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SS   Vehicle Speed Sen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2    Exhaust Oxygen Sen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KP   Crankshaft Posi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MP  Camshaft Pos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S     Knock or Detonation Sen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791E-5A13-41FA-AB0D-CAFCBF240047}" type="slidenum">
              <a:t>11</a:t>
            </a:fld>
          </a:p>
        </p:txBody>
      </p:sp>
    </p:spTree>
  </p:cSld>
  <p:transition>
    <p:blinds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anifold Absolute Pressure Sensor (MAP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difference between atmospheric pressure and intake manifold vacu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648320" cy="294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2AF-1965-410F-82A3-D115323A1D70}" type="slidenum">
              <a:t>12</a:t>
            </a:fld>
          </a:p>
        </p:txBody>
      </p:sp>
    </p:spTree>
  </p:cSld>
  <p:transition>
    <p:cover dir="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ass Air Flow Sensor (MAF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mass of air entering intake manifol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6200" y="1752480"/>
            <a:ext cx="4497480" cy="510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82D-550C-4491-B0BB-EF39ADEBCB01}" type="slidenum">
              <a:t>13</a:t>
            </a:fld>
          </a:p>
        </p:txBody>
      </p:sp>
    </p:spTree>
  </p:cSld>
  <p:transition>
    <p:cover dir="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rottle Position Sensor (TP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 throttle angle for P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ically: it’s a potentiome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voltage signal changes as resistance in pot. chang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114800" y="3084480"/>
            <a:ext cx="5181480" cy="24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7EF3-6D71-47D2-9AFC-CA14569625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gine Coolant Temperature Sensor (ECT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 engines coolant tempera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or mounted in engines water jack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657600" y="2590920"/>
            <a:ext cx="5486400" cy="413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3E46-B0BC-40F0-B7F2-D8FBCCFA5F10}" type="slidenum">
              <a:t>15</a:t>
            </a:fld>
          </a:p>
        </p:txBody>
      </p:sp>
    </p:spTree>
  </p:cSld>
  <p:transition>
    <p:cover dir="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ake Air Temperature (IAT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37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s like CTS -measures - temperature of  intake a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 intake air temperatu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hieving the precise control of the A/F ratio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7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5715000" cy="278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8C02-A0C1-4420-A5B0-915FEE7A21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ehicle Speed Sensor (VS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itors VEHICLE SP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ENGINE SP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93840" y="105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Vehicle Speed Sensors Offered by Stealth Conversions"/>
          <p:cNvPicPr/>
          <p:nvPr/>
        </p:nvPicPr>
        <p:blipFill>
          <a:blip r:embed="rId2"/>
          <a:stretch/>
        </p:blipFill>
        <p:spPr>
          <a:xfrm>
            <a:off x="0" y="1752480"/>
            <a:ext cx="4495680" cy="377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E59B-33F1-41D5-90F6-92C017CEE3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xygen Sensor (O2 or HO2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 the amount of oxygen in the exhaust stre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 voltage &lt;.45 is a lean sig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voltage &gt;.45 is a rich sig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96 /newer use two O2 sens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O2 sensors are heated. ( HO2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48320" y="2284560"/>
            <a:ext cx="3809880" cy="350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1DB9-4DDA-4AF7-B3D0-555B1AAE00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rankshaft Position Sensor (CKP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62160" y="198072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s Notches in crankshaf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3809880" cy="2149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480" y="3962520"/>
            <a:ext cx="23162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5066-A25D-4656-AE4B-AD925EBA39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ypes of Fuel Injection Syste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t fuel injection. (PFI/MPF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ottle Body Fuel Injection. (TB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cal or CIS injection syst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58 Corvette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uel injection (Manu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4208-36D9-48FB-827B-85F5E1ACEAEE}" type="slidenum">
              <a:t>2</a:t>
            </a:fld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mshaft Position Sensor (CMP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724280" y="2362320"/>
            <a:ext cx="441972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0E6-6F5F-4A1C-91FB-9D05E7B86F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Knock Sensor (K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495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es detonation which the engine is run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CM will retard spark when detonation is detec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952880" cy="30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2DB8-6B10-4EF3-84FC-81789048AF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puter Actuators (Output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495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el Inje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AC Idle Air Contr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el Pump Rel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P Canister Pur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GR Regul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oling Fan Rel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rque Conver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L-Malfunction Indicator Lam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4EC4-9B23-4807-9DFE-8D8456B38AEC}" type="slidenum">
              <a:t>22</a:t>
            </a:fld>
          </a:p>
        </p:txBody>
      </p:sp>
    </p:spTree>
  </p:cSld>
  <p:transition>
    <p:cover dir="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lectronic Injection System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lectronic Pa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 (PCM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gic devi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ors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put data to the compu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uators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tput devices the computer oper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echanical Pa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tan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pu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filter and li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jector or injec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rai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ure regulat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B663-E7D5-42BD-9853-743F14C2A978}" type="slidenum">
              <a:t>3</a:t>
            </a:fld>
          </a:p>
        </p:txBody>
      </p:sp>
    </p:spTree>
  </p:cSld>
  <p:transition>
    <p:pull dir="l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lectronic Par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lectronic Part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 (PCM) 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ic dev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o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put data to the compu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uato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tput devices the computer oper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9880" y="1766880"/>
            <a:ext cx="5334120" cy="35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50C-BB5D-41C5-9FBC-78F1260FF7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Filter and Fuel Li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k on gas pum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reen in inj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2847960"/>
            <a:ext cx="3809880" cy="23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2F48-EA69-4CE1-9EF6-3B73493875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Rail &amp; Pressure Regulato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257440" y="205704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ail - pipe that fills the injec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ure regulator controls the pressure to injec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ure adjusted for changes in intake manifold vacu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are mechanical but newer cars use an electronic syst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5257800" cy="329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DA38-42D1-45AC-8268-504A37327797}" type="slidenum">
              <a:t>6</a:t>
            </a:fld>
          </a:p>
        </p:txBody>
      </p:sp>
    </p:spTree>
  </p:cSld>
  <p:transition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Inject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jecto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ctrically operated val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pum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mps fuel to injector from fuel tan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lds pressure against e injector’s val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 triggers valve with electrical signal called a puls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pulse widt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4495680" cy="21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B575-407C-48F5-9F6D-7EE87834C849}" type="slidenum">
              <a:t>7</a:t>
            </a:fld>
          </a:p>
        </p:txBody>
      </p:sp>
    </p:spTree>
  </p:cSld>
  <p:transition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Injector Par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2880" y="685800"/>
            <a:ext cx="3810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” Ring sea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el rai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ake manifol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enoid insid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e electrical connec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ntle Need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spray e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fuel shoots o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" y="3081240"/>
            <a:ext cx="3809880" cy="19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6075-FDFC-4C3B-91C9-88CCFCDF8D38}" type="slidenum">
              <a:t>8</a:t>
            </a:fld>
          </a:p>
        </p:txBody>
      </p:sp>
    </p:spTree>
  </p:cSld>
  <p:transition>
    <p:zoom dir="in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he Injector Fi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mputer grounds the injector to turn i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pulse” -- “Pulse width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lses timed by crankshaft sensor (CKPS). And/or camshaft sensor (CP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ways to fire the injector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Gr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 Gang inj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 Sequential inj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50BD-A70F-4485-ABDF-D3863DE613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4T19:40:53Z</dcterms:created>
  <dc:creator>A satisfied Microsoft Office User</dc:creator>
  <dc:description/>
  <dc:language>en-US</dc:language>
  <cp:lastModifiedBy>HEHS</cp:lastModifiedBy>
  <dcterms:modified xsi:type="dcterms:W3CDTF">2005-10-24T19:43:10Z</dcterms:modified>
  <cp:revision>33</cp:revision>
  <dc:subject/>
  <dc:title>FUEL INJECTION SYSTEMS</dc:title>
</cp:coreProperties>
</file>