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B9B-A575-45BF-A637-1655C44F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E91-8D74-4C32-AD65-CEB84678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465-3EE0-49A0-A546-28B76B1A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4D4-6C8A-4E92-B84F-CA48FDA9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9B0C-3299-483C-A449-E2E53C44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2B7A-1703-4F36-BF88-AB91803E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1907-57D9-471F-B306-4C0ACA45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3BE3-BACB-4613-92E0-6F995E01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D674-58C6-4793-98FE-E0DF4FB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D53-1D5F-445C-8663-41D176A2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21BB-8D1C-489A-B226-7CF459A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845-B8BD-4858-851F-F1CC5E26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2F3-3B5A-4F9C-A5C1-02B2FBB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1F9-1E7A-4CBF-8E2E-5DF8DAE9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F58E-880B-4213-A082-621CB9F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C39D-DC4B-47F6-AA02-F3C054FF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EB90-51B0-4D6E-99AB-55FC5BBB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AB6-BB3F-4576-AB9F-C2D80399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FCE-CC0F-4E27-94E8-60F8AA6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476-49D5-4400-84D7-9C31BF65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5F9-724E-4194-B5E3-E6F92CB9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CEC-E1E0-4900-8F36-ED439B35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479-237D-4E03-A08E-5FA7AD7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A8B-9B1B-4390-B5F8-4D8E4D3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2414-3B42-4EDF-BEA8-8BAF33536A0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CF8D-0A3F-453C-80CC-240FA8752F1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landers</cp:lastModifiedBy>
  <dcterms:modified xsi:type="dcterms:W3CDTF">2008-06-23T20:46:34Z</dcterms:modified>
  <cp:revision>4</cp:revision>
  <dc:subject/>
  <dc:title>FUEL INJECTOR  DIAGNOSIS</dc:title>
</cp:coreProperties>
</file>