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F4D-32C4-4016-B83D-A66591B4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A31-F672-471C-8896-1619164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361-DB00-42A4-8D02-5D8E7A04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1CC-7352-4CF0-8D1F-896B8E73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9360-20FA-40E2-BCB3-75C95190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BFDD-3CD9-4D5D-AE27-521D6B0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B4D9-4064-43CC-B9C8-754652A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C53-DA6A-49E7-8028-9613CE7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AB81-F71A-4030-8731-57A42D42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5BDC-8803-4DFB-B2D0-6DD30205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EB4-4BD9-49C8-B670-AC399DE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56D-3079-4C75-929B-651FF3E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7EE-657A-48C5-94F0-F23C5C4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6D8F-07F3-4CC1-8DE0-FA2CD67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D930-002A-4CE6-A133-3F0337E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412-5F38-4D52-BB01-6FF4134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C3EE-E4EB-4FBE-A402-F76D094E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880-FA98-4BB2-9C05-D809202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404-B805-46A3-9EDB-6FC7063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45D-B4B9-47C9-8637-EEBA977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285-F96C-44E3-B233-E3EC7703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356-7C58-42CE-AA8C-E7F3262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7E2-72C6-43A6-A7D8-E5062F51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63C-6B98-4D28-B5EF-2C767BC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2AE-C34B-475D-AE48-F1A21C4B82B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89C1-4695-4A7C-8310-37B57B51044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landers</cp:lastModifiedBy>
  <dcterms:modified xsi:type="dcterms:W3CDTF">2008-06-23T20:46:34Z</dcterms:modified>
  <cp:revision>4</cp:revision>
  <dc:subject/>
  <dc:title>FUEL INJECTOR  DIAGNOSIS</dc:title>
</cp:coreProperties>
</file>