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8E8-E14D-49DA-9B61-8D230EC7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309-0BBA-4794-A91D-3A2E480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291-C6C5-4282-B50C-DEAE88D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23C-B963-4C71-9309-60772C37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4DE-DD02-48CA-A656-15444EBD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BC2-500C-45A2-AB16-59FBA80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BA4-73AA-4D40-BAEA-B17194C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84E0-B142-45CA-97C8-BAB67629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24C1-723B-4EA6-A9B8-5E3D9BC4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1BC8-52A0-4C01-9085-0BA0360D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199B-EC44-4CD8-B834-DB6F716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206-BA06-4FFA-886E-E095EA8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334-A52D-4AFD-B892-AC3EB7D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ED31-E497-499C-945C-FE7EC81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547A-043D-4320-9E80-8B8324DF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587-4619-4DF8-8260-D556A77B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70F-71D3-40AB-AE31-47C85026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878-A32F-4341-8AE0-0AFD75A2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696-68A2-4CAC-8926-E603A49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9C9-0DF7-4A0E-949B-54408E8C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6DF-6A90-4030-A1C0-661ED004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8A0-FCF5-432B-89F5-34FB00F5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97B-A597-47C9-9BA6-7250BCA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CDB-3411-4FDC-B2AF-90D4234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4731-684F-49B1-8056-BE0A70EC346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DEAB-A76A-4AD0-A96B-25725E9E808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INJECT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MANU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1972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SCH PNP PEAK AND HOLD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me as NPN but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is always ground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sends pulse to energiz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on European ca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INJ_BPNP" descr=""/>
          <p:cNvPicPr/>
          <p:nvPr/>
        </p:nvPicPr>
        <p:blipFill>
          <a:blip r:embed="rId1"/>
          <a:stretch/>
        </p:blipFill>
        <p:spPr>
          <a:xfrm>
            <a:off x="714240" y="533520"/>
            <a:ext cx="2989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DIAGNOS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t have clean vertical drop on on-time pul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lse much reach within 600 milli-volts of grou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pikes should be consistent, if not may be power feed to PC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aveforms abnormal - Start a waveform libr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B PRAC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t a car and hook up a lab scope to an fuel inject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aw the pattern you get and identify the type of injecto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sure to measure the amplitude and the pulse widt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ION SYSTEMS AND LAB SCOP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TEXTRONX" descr=""/>
          <p:cNvPicPr/>
          <p:nvPr/>
        </p:nvPicPr>
        <p:blipFill>
          <a:blip r:embed="rId1"/>
          <a:stretch/>
        </p:blipFill>
        <p:spPr>
          <a:xfrm>
            <a:off x="1795320" y="2133720"/>
            <a:ext cx="5553360" cy="41148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wo Main Systems for Injector Contr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up or Bank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ups of injectors fire together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driver fires two or more inject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tial Fuel Inje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s fire one at at ti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ch injector has its own driv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e determines diagnostic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ntional (Mechanical)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mechanical methods of limiting curr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llast resis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 resistance Injecto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aturated Driver Circu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injectors on and off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3045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nventional (Saturated) Switch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jector driver  constantly applies current to th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 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asure from falling edge to rising ed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INJ_B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252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JECTOR ELECTRICAL CIRC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ak and Ho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uses a “Peak Circuit” and a “Hold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uter turns on both circuits to energize injector - current flow hig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Peak Circuit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ld Circuit” reduces current flo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urns off “Hold Circuit” to end on-ti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AK AND HOLD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es two circuits to energize injec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fter initial current flow, one circuit releases and allows second circuit to operate with lower curr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asure on time at falling edge and off time at second spik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INJP&amp;H1" descr=""/>
          <p:cNvPicPr/>
          <p:nvPr/>
        </p:nvPicPr>
        <p:blipFill>
          <a:blip r:embed="rId1"/>
          <a:stretch/>
        </p:blipFill>
        <p:spPr>
          <a:xfrm>
            <a:off x="4648320" y="2357280"/>
            <a:ext cx="3809880" cy="366552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NP Injec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NP driver allows reverse pola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iver applies current to operate inject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on-time puls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INJ_JEEP" descr=""/>
          <p:cNvPicPr/>
          <p:nvPr/>
        </p:nvPicPr>
        <p:blipFill>
          <a:blip r:embed="rId1"/>
          <a:stretch/>
        </p:blipFill>
        <p:spPr>
          <a:xfrm>
            <a:off x="1146240" y="380880"/>
            <a:ext cx="2887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lse Modulated Peak and Hold Injecto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CTRONIC CURRENT LIMI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lse Modulat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s 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rapidly pulses signal to limit current flo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uter turns injector off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INJ_BP-H" descr=""/>
          <p:cNvPicPr/>
          <p:nvPr/>
        </p:nvPicPr>
        <p:blipFill>
          <a:blip r:embed="rId1"/>
          <a:stretch/>
        </p:blipFill>
        <p:spPr>
          <a:xfrm>
            <a:off x="703440" y="609480"/>
            <a:ext cx="347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22:15:00Z</dcterms:created>
  <dc:creator>Vocational Division</dc:creator>
  <dc:description/>
  <dc:language>en-US</dc:language>
  <cp:lastModifiedBy>frichj</cp:lastModifiedBy>
  <dcterms:modified xsi:type="dcterms:W3CDTF">1998-10-26T02:44:12Z</dcterms:modified>
  <cp:revision>2</cp:revision>
  <dc:subject/>
  <dc:title>FUEL INJECTOR  DIAGNOSIS</dc:title>
</cp:coreProperties>
</file>