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3.jpeg" ContentType="image/jpeg"/>
  <Override PartName="/ppt/media/image8.jpeg" ContentType="image/jpeg"/>
  <Override PartName="/ppt/media/image12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2046-669C-4C91-8680-325C10F1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0FB-FE76-45DC-93DC-E4B50ED9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6824-1679-4CF8-8F94-30BC54C3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778-D63F-467B-B5F9-0D8FD519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E302-113F-4634-9BF6-110B8508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D973-B099-47FE-9752-D52DD3CC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334A-0858-4CC8-A5C5-D9DFF0B7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F4E4-82F5-46BE-B8A4-59D6FBA7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B205-99CF-44DD-BA62-BE442CF4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AA1C-C0C9-40D0-B619-852872A6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CA61-109F-44CB-B406-85A7CF56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5003-70B2-459A-98CF-A4CC4028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C4A8-6064-4721-8EF0-4159FFC0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3670-5B13-4427-88FB-CC544DEF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2CCC-210F-41A8-A148-93B4CADF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D8C1-55FB-445B-A4DA-FEFA4103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206D-1DBD-47A5-A151-D2408CAD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8B5-551B-458B-9C5F-74392820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EAE-0BB2-4B41-AC8E-5A498387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545B-84B5-4725-A193-4539107C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5F2-DA73-40A4-B9D2-E3B40704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01FC-47CF-4B42-B4D9-8654555B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F294-0937-4CE9-BBF8-C78A4102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6F8-5F2E-4B3D-AEB2-A8C6AFA4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1314-07BD-428B-88DC-A66FEC3173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0015-B3D7-431D-87FE-0B6AE146DC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sterfixit.com/crank3.gif" TargetMode="External"/><Relationship Id="rId3" Type="http://schemas.openxmlformats.org/officeDocument/2006/relationships/image" Target="../media/image16.png"/><Relationship Id="rId4" Type="http://schemas.openxmlformats.org/officeDocument/2006/relationships/hyperlink" Target="http://www.misterfixit.com/crank1.gif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INJECTION SYSTE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543800" cy="51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32A-4729-4525-A0D9-EB7FABC6D853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ns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9" name="" descr="Active Speed and Position Sensors"/>
          <p:cNvPicPr/>
          <p:nvPr/>
        </p:nvPicPr>
        <p:blipFill>
          <a:blip r:embed="rId2"/>
          <a:stretch/>
        </p:blipFill>
        <p:spPr>
          <a:xfrm>
            <a:off x="0" y="1905120"/>
            <a:ext cx="9144000" cy="464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178-9C76-4019-BE27-0D9F61330C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lectronic Sensors (Input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  Manifold Absolute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F   Mass Air 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T   Engine Coolant 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AT    Intake Air 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PS   Throttle Position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SS   Vehicle Speed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2    Exhaust Oxygen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KP   Crankshaft Posi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MP  Camshaft Po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S     Knock or Detonation Sen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9BF-3FB6-48E5-BF79-52B83A1DCC87}" type="slidenum">
              <a:t>11</a:t>
            </a:fld>
          </a:p>
        </p:txBody>
      </p:sp>
    </p:spTree>
  </p:cSld>
  <p:transition>
    <p:blinds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anifold Absolute Pressure Sensor (MAP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difference between atmospheric pressure and intake manifold vacu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648320" cy="294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63C-4731-4F54-9C64-52E2464752A4}" type="slidenum">
              <a:t>12</a:t>
            </a:fld>
          </a:p>
        </p:txBody>
      </p:sp>
    </p:spTree>
  </p:cSld>
  <p:transition>
    <p:cover dir="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ass Air Flow Sensor (MAF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mass of air entering intake manifo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6200" y="1752480"/>
            <a:ext cx="4497480" cy="510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FBC7-AC61-4849-98DE-5C961E6D873F}" type="slidenum">
              <a:t>13</a:t>
            </a:fld>
          </a:p>
        </p:txBody>
      </p:sp>
    </p:spTree>
  </p:cSld>
  <p:transition>
    <p:cover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rottle Position Sensor (TP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 throttle angle for P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ically: it’s a potentiome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oltage signal changes as resistance in pot. chan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114800" y="3084480"/>
            <a:ext cx="5181480" cy="24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9DB-4ACC-4B36-8CFD-543549D27D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gine Coolant Temperature Sensor (ECT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 engines coolant temper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 mounted in engines water jack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5486400" cy="41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903-F7AB-4B01-9A46-4A358CFAC251}" type="slidenum">
              <a:t>15</a:t>
            </a:fld>
          </a:p>
        </p:txBody>
      </p:sp>
    </p:spTree>
  </p:cSld>
  <p:transition>
    <p:cover dir="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ake Air Temperature (IAT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37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s like CTS -measures - temperature of  intake a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 intake air temperatu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eving the precise control of the A/F ratio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7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5715000" cy="278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586-2EA1-4565-97A6-8E68781002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ehicle Speed Sensor (VS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s VEHICLE 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ENGINE 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93840" y="105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Vehicle Speed Sensors Offered by Stealth Conversions"/>
          <p:cNvPicPr/>
          <p:nvPr/>
        </p:nvPicPr>
        <p:blipFill>
          <a:blip r:embed="rId2"/>
          <a:stretch/>
        </p:blipFill>
        <p:spPr>
          <a:xfrm>
            <a:off x="0" y="1752480"/>
            <a:ext cx="4495680" cy="377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A5E-59D7-48A3-8D2D-4A65B15AF6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xygen Sensor (O2 or HO2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 the amount of oxygen in the exhaust stre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 voltage &lt;.45 is a lean sig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voltage &gt;.45 is a rich sig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96 /newer use two O2 sens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O2 sensors are heated. ( HO2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8320" y="2284560"/>
            <a:ext cx="3809880" cy="35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66CF-7AE8-4794-B66A-F9C0552AE0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rankshaft Position Sensor (CKP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62160" y="198072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s Notches in cranksha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3809880" cy="2149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3962520"/>
            <a:ext cx="231624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C10-1124-446D-BC09-9A9A2317B2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ypes of Fuel Injection Syste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t fuel injection. (PFI/MPF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ottle Body Fuel Injection. (TB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cal or CIS injection syst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58 Corvett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uel injection (Manu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057-AF79-42C6-9312-DEB48910DC05}" type="slidenum">
              <a:t>2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mshaft Position Sensor (CMP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441972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9F2-A66D-47BB-AB91-DD680C9E0F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Knock Sensor (K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es detonation which the engine is run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CM will retard spark when detonation is detec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952880" cy="30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E7DE-657A-421B-BBC0-B360E67EF4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puter Actuators (Output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495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el Inje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AC Idle Air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el Pump Rel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P Canister Pur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GR Regul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oling Fan Rel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rque Conver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L-Malfunction Indicator Lam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935-C94B-4D32-AF2B-30B2BCE5C773}" type="slidenum">
              <a:t>22</a:t>
            </a:fld>
          </a:p>
        </p:txBody>
      </p:sp>
    </p:spTree>
  </p:cSld>
  <p:transition>
    <p:cover dir="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lectronic Injection System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ectronic P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 (PCM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gic dev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put data to the compu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uators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tput devices the computer oper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echanical P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tan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pu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filter and l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jector or injec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ra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ure regula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BB5-6A9D-4789-A02B-0C337ECF99D0}" type="slidenum">
              <a:t>3</a:t>
            </a:fld>
          </a:p>
        </p:txBody>
      </p:sp>
    </p:spTree>
  </p:cSld>
  <p:transition>
    <p:pull dir="l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lectronic Par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ectronic Part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 (PCM) 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ic dev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o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put data to the compu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uato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tput devices the computer oper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9880" y="1766880"/>
            <a:ext cx="5334120" cy="35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99F-E766-4E5A-8039-41827A4850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Filter and Fuel Li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k on gas pum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reen in inj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2847960"/>
            <a:ext cx="3809880" cy="23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E921-D3A5-433E-83E2-A5B8895650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Rail &amp; Pressure Regulato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257440" y="205704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ail - pipe that fills the injec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ure regulator controls the pressure to injec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ure adjusted for changes in intake manifold vacu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are mechanical but newer cars use an electronic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5257800" cy="32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25F-EA38-4FA7-AE0F-9274B42D2FA3}" type="slidenum">
              <a:t>6</a:t>
            </a:fld>
          </a:p>
        </p:txBody>
      </p:sp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Inject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jecto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ctrically operated val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el pum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mps fuel to injector from fuel tan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ds pressure against e injector’s val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 triggers valve with electrical signal called a pul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pulse widt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495680" cy="21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27D-4D27-4F07-97DC-C1FD74769229}" type="slidenum">
              <a:t>7</a:t>
            </a:fld>
          </a:p>
        </p:txBody>
      </p:sp>
    </p:spTree>
  </p:cSld>
  <p:transition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el Injector Par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2880" y="685800"/>
            <a:ext cx="3810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” Ring sea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el rai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ake manifol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enoid insid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e electrical connec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ntle Need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spray e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fuel shoots o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3081240"/>
            <a:ext cx="3809880" cy="19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0D4-756D-4D45-984D-146D750DE07B}" type="slidenum">
              <a:t>8</a:t>
            </a:fld>
          </a:p>
        </p:txBody>
      </p:sp>
    </p:spTree>
  </p:cSld>
  <p:transition>
    <p:zoom dir="in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he Injector Fi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mputer grounds the injector to turn i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pulse” -- “Pulse width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lses timed by crankshaft sensor (CKPS). And/or camshaft sensor (CP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ways to fire the injector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 Gang in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 Sequential in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FA8-8FA3-4045-8AB1-2A533B389A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4T19:40:53Z</dcterms:created>
  <dc:creator>A satisfied Microsoft Office User</dc:creator>
  <dc:description/>
  <dc:language>en-US</dc:language>
  <cp:lastModifiedBy>HEHS</cp:lastModifiedBy>
  <dcterms:modified xsi:type="dcterms:W3CDTF">2005-10-24T19:43:10Z</dcterms:modified>
  <cp:revision>33</cp:revision>
  <dc:subject/>
  <dc:title>FUEL INJECTION SYSTEMS</dc:title>
</cp:coreProperties>
</file>