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3D8B7-A2F3-438F-8B85-6CDC9A22F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9150-1C8F-4D52-9E12-A48EC1171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6FFDF-32F8-4B23-889D-2AFB40591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A6255-8F1D-46DE-91EB-45C995473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A3643-9C70-40C9-BACD-C79A53654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B1A88-CC47-4FC2-9CE5-0676CB3B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081E9-93C3-4236-B624-398A02306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4FD01-796B-41F2-A11B-DC09AD76E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6E1E-8997-4B45-9656-FD4C7023C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FF217-FDCB-42CE-9B1A-3A7CA0A24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1D806-B1A4-415C-BCC1-CE1C87348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6547-2B99-4871-9C71-65CFD0A13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14293-5FC9-4599-A20D-46D1EF916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C20C-0EF9-4123-A501-4502E2E1C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E99D-3BD8-4360-8652-B10949DBA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0A25C-D767-43CE-B692-1CAF59905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BCD67-655E-4127-8395-346FF3BC0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A7A8C-1B52-4774-A2CA-D3B033B36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043CC-2E2A-4730-A42D-BAF56E29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E2B36-7AE6-4D0C-9517-E458B4CB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281C-8E71-4B2F-A0C1-0D315AD5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C34B-393C-46D3-A476-D2DB6218C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5C67-7731-413C-9816-F825E440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52F6-B4C0-47AE-A94C-562F16054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5D2A-536D-4218-A6A8-4A3092B20ED8}"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085D-0134-4E11-9BA0-9FEE2481C969}"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used in EFI (Electronic Fuel Injection)</a:t>
            </a:r>
            <a:endParaRPr b="0" lang="en-US" sz="4400" spc="-1" strike="noStrike">
              <a:solidFill>
                <a:srgbClr val="000000"/>
              </a:solidFill>
              <a:latin typeface="Tahoma"/>
            </a:endParaRPr>
          </a:p>
        </p:txBody>
      </p:sp>
      <p:sp>
        <p:nvSpPr>
          <p:cNvPr id="91"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hahin H. Berish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eWay Community Colleg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oenix, Arizona,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77000"/>
          </a:bodyPr>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e Air Flow Meter - consist on the:</a:t>
            </a:r>
            <a:endParaRPr b="0" lang="en-US" sz="32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loaded measuring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tentiometer attached to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lume of the air determines the position of the plate,</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on of the plate determines the value of the resistance on the potentiometer,</a:t>
            </a:r>
            <a:endParaRPr b="0" lang="en-US" sz="2800" spc="-1" strike="noStrike">
              <a:solidFill>
                <a:srgbClr val="ffffff"/>
              </a:solidFill>
              <a:latin typeface="Tahoma"/>
            </a:endParaRPr>
          </a:p>
          <a:p>
            <a:pPr lvl="1" marL="572040" indent="-219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sistance determines the output voltage of the sensor that goes to ECU</a:t>
            </a:r>
            <a:endParaRPr b="0" lang="en-US" sz="2800" spc="-1" strike="noStrike">
              <a:solidFill>
                <a:srgbClr val="ffffff"/>
              </a:solidFill>
              <a:latin typeface="Tahoma"/>
            </a:endParaRPr>
          </a:p>
          <a:p>
            <a:pPr lvl="1" marL="572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3880" indent="-263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nsors involved in Air Induction System</a:t>
            </a:r>
            <a:endParaRPr b="0" lang="en-US" sz="44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man Vortex Air Flow Me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flow generates variable frequency digital sig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quency of the digital signal is proportional to air fl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ahs three ele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put Senso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U (a microprocesso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pu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First Design Air Flow Meter</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four of which are used for air flow 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voltage because main vehicle battery V</a:t>
            </a:r>
            <a:r>
              <a:rPr b="0" lang="en-US" sz="2800" spc="-1" strike="noStrike" baseline="-25000">
                <a:solidFill>
                  <a:srgbClr val="ffffff"/>
                </a:solidFill>
                <a:latin typeface="Tahoma"/>
              </a:rPr>
              <a:t>b</a:t>
            </a:r>
            <a:r>
              <a:rPr b="0" lang="en-US" sz="2800" spc="-1" strike="noStrike">
                <a:solidFill>
                  <a:srgbClr val="ffffff"/>
                </a:solidFill>
                <a:latin typeface="Tahoma"/>
              </a:rPr>
              <a:t> may change with the l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Second Design Air Flow Meter</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seven connectors, three of which are used for air flow mete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changes the resistance of potentiometer (r</a:t>
            </a:r>
            <a:r>
              <a:rPr b="0" lang="en-US" sz="2800" spc="-1" strike="noStrike" baseline="-25000">
                <a:solidFill>
                  <a:srgbClr val="ffffff"/>
                </a:solidFill>
                <a:latin typeface="Tahoma"/>
              </a:rPr>
              <a:t>1</a:t>
            </a:r>
            <a:r>
              <a:rPr b="0" lang="en-US" sz="2800" spc="-1" strike="noStrike">
                <a:solidFill>
                  <a:srgbClr val="ffffff"/>
                </a:solidFill>
                <a:latin typeface="Tahoma"/>
              </a:rPr>
              <a:t> and r</a:t>
            </a:r>
            <a:r>
              <a:rPr b="0" lang="en-US" sz="2800" spc="-1" strike="noStrike" baseline="-25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hanges the voltage drop (output voltage) across the potentiometer (V</a:t>
            </a:r>
            <a:r>
              <a:rPr b="0" lang="en-US" sz="2800" spc="-1" strike="noStrike" baseline="-25000">
                <a:solidFill>
                  <a:srgbClr val="ffffff"/>
                </a:solidFill>
                <a:latin typeface="Tahoma"/>
              </a:rPr>
              <a:t>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t>
            </a:r>
            <a:r>
              <a:rPr b="0" lang="en-US" sz="2800" spc="-1" strike="noStrike" baseline="-25000">
                <a:solidFill>
                  <a:srgbClr val="ffffff"/>
                </a:solidFill>
                <a:latin typeface="Tahoma"/>
              </a:rPr>
              <a:t>c</a:t>
            </a:r>
            <a:r>
              <a:rPr b="0" lang="en-US" sz="2800" spc="-1" strike="noStrike">
                <a:solidFill>
                  <a:srgbClr val="ffffff"/>
                </a:solidFill>
                <a:latin typeface="Tahoma"/>
              </a:rPr>
              <a:t> is used as a reference and a regulated 5V is used instead of V</a:t>
            </a:r>
            <a:r>
              <a:rPr b="0" lang="en-US" sz="2800" spc="-1" strike="noStrike" baseline="-25000">
                <a:solidFill>
                  <a:srgbClr val="ffffff"/>
                </a:solidFill>
                <a:latin typeface="Tahoma"/>
              </a:rPr>
              <a:t>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Karman Vortex Air Flow Meter</a:t>
            </a:r>
            <a:endParaRPr b="0" lang="en-US" sz="3200" spc="-1" strike="noStrike">
              <a:solidFill>
                <a:srgbClr val="000000"/>
              </a:solidFill>
              <a:latin typeface="Tahoma"/>
            </a:endParaRPr>
          </a:p>
        </p:txBody>
      </p:sp>
      <p:sp>
        <p:nvSpPr>
          <p:cNvPr id="12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otocoupler and a mirr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ortex generator</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IC</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ir passes through the air flow meter, the vortex generator produces digital signal</a:t>
            </a:r>
            <a:endParaRPr b="0" lang="en-US" sz="2800" spc="-1" strike="noStrike">
              <a:solidFill>
                <a:srgbClr val="ffffff"/>
              </a:solidFill>
              <a:latin typeface="Tahoma"/>
            </a:endParaRPr>
          </a:p>
          <a:p>
            <a:pPr marL="329040" indent="-329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quency of this signal is proportional to the velocity of a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put Sensors</a:t>
            </a:r>
            <a:br>
              <a:rPr sz="4400"/>
            </a:br>
            <a:r>
              <a:rPr b="0" lang="en-US" sz="3200" spc="-1" strike="noStrike">
                <a:solidFill>
                  <a:srgbClr val="000000"/>
                </a:solidFill>
                <a:latin typeface="Tahoma"/>
              </a:rPr>
              <a:t>Manifold Absolute Pressure Sensor</a:t>
            </a:r>
            <a:br>
              <a:rPr sz="3200"/>
            </a:br>
            <a:r>
              <a:rPr b="0" lang="en-US" sz="3200" spc="-1" strike="noStrike">
                <a:solidFill>
                  <a:srgbClr val="000000"/>
                </a:solidFill>
                <a:latin typeface="Tahoma"/>
              </a:rPr>
              <a:t>or vacuum sensor</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measures intake air volum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 of a piezoelectric silicon chip and an IC</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ing the perfect vacuum and pressure in the intake manifold, the resistance of the silicon chip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in the resistance causes change in signal voltage at PIM (Pressure Intake Mainfold) on th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ater Temperature Sensor </a:t>
            </a:r>
            <a:endParaRPr b="0" lang="en-US" sz="44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monitors engine coolant temperature by a thermistor with a negative temperature coeffici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mistor is part of a circuit in which a voltage drop across this thermistor is monitored by ECU</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emperature goes up voltage goes down (see figure) - negative temperature coeffici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ir Temperature Sensor</a:t>
            </a:r>
            <a:endParaRPr b="0" lang="en-US" sz="4400" spc="-1" strike="noStrike">
              <a:solidFill>
                <a:srgbClr val="000000"/>
              </a:solidFill>
              <a:latin typeface="Tahoma"/>
            </a:endParaRPr>
          </a:p>
        </p:txBody>
      </p:sp>
      <p:sp>
        <p:nvSpPr>
          <p:cNvPr id="12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s the temperature of air entering intake manifold by means of thermist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has identical characteristics as a water temperature sensor</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needed because the pressure and the density of air changes with temperatu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On-Off Type Sensor</a:t>
            </a:r>
            <a:endParaRPr b="0" lang="en-US" sz="3200" spc="-1" strike="noStrike">
              <a:solidFill>
                <a:srgbClr val="000000"/>
              </a:solidFill>
              <a:latin typeface="Tahoma"/>
            </a:endParaRPr>
          </a:p>
        </p:txBody>
      </p:sp>
      <p:sp>
        <p:nvSpPr>
          <p:cNvPr id="12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simple switch device that either pulls a reference voltage to ground (V = 0) - PSW position on the circuit or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s a battery voltage signal to ECU - IDL position on the circui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witching action causes the voltage signal to ECU to go high when the switch contact are clo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EFI?</a:t>
            </a:r>
            <a:endParaRPr b="0" lang="en-US" sz="4400" spc="-1" strike="noStrike">
              <a:solidFill>
                <a:srgbClr val="000000"/>
              </a:solidFill>
              <a:latin typeface="Tahoma"/>
            </a:endParaRPr>
          </a:p>
        </p:txBody>
      </p:sp>
      <p:sp>
        <p:nvSpPr>
          <p:cNvPr id="9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I is a way of delivering fuel to the engine by electronically controlling injection directly into the intake manifold near the intake val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ottle Position Sensor</a:t>
            </a:r>
            <a:br>
              <a:rPr sz="4400"/>
            </a:br>
            <a:r>
              <a:rPr b="0" lang="en-US" sz="3200" spc="-1" strike="noStrike">
                <a:solidFill>
                  <a:srgbClr val="000000"/>
                </a:solidFill>
                <a:latin typeface="Tahoma"/>
              </a:rPr>
              <a:t>Linear Throttle Position Sensor</a:t>
            </a:r>
            <a:endParaRPr b="0" lang="en-US" sz="3200" spc="-1" strike="noStrike">
              <a:solidFill>
                <a:srgbClr val="000000"/>
              </a:solidFill>
              <a:latin typeface="Tahoma"/>
            </a:endParaRPr>
          </a:p>
        </p:txBody>
      </p:sp>
      <p:sp>
        <p:nvSpPr>
          <p:cNvPr id="13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he throttle opens, a potentiometer circuit converts the mechanical movement of the throttle valve into a variable voltage signal,</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utput voltage VTA is proportional with the throttle opening ang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xygen Sensors</a:t>
            </a:r>
            <a:endParaRPr b="0" lang="en-US" sz="4400" spc="-1" strike="noStrike">
              <a:solidFill>
                <a:srgbClr val="000000"/>
              </a:solidFill>
              <a:latin typeface="Tahoma"/>
            </a:endParaRPr>
          </a:p>
        </p:txBody>
      </p:sp>
      <p:sp>
        <p:nvSpPr>
          <p:cNvPr id="13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haust oxygen sensors are used to provide air/fuel ratio feedback information 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is information the ratio/fuel is adjusted continuously - Closed Loop</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dea is used in a cruise control driving</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loop is open no information is fed into ECU</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ensor is located near the exhaust and operates at temperatures above 750</a:t>
            </a:r>
            <a:r>
              <a:rPr b="0" lang="en-US" sz="2800" spc="-1" strike="noStrike" baseline="30000">
                <a:solidFill>
                  <a:srgbClr val="ffffff"/>
                </a:solidFill>
                <a:latin typeface="Tahoma"/>
              </a:rPr>
              <a:t>o</a:t>
            </a:r>
            <a:r>
              <a:rPr b="0" lang="en-US" sz="2800" spc="-1" strike="noStrike">
                <a:solidFill>
                  <a:srgbClr val="ffffff"/>
                </a:solidFill>
                <a:latin typeface="Tahoma"/>
              </a:rPr>
              <a:t>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rconium Dioxide Sensor</a:t>
            </a:r>
            <a:endParaRPr b="0" lang="en-US" sz="4400" spc="-1" strike="noStrike">
              <a:solidFill>
                <a:srgbClr val="000000"/>
              </a:solidFill>
              <a:latin typeface="Tahoma"/>
            </a:endParaRPr>
          </a:p>
        </p:txBody>
      </p:sp>
      <p:sp>
        <p:nvSpPr>
          <p:cNvPr id="134"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lectro-mechanical device that compares the oxygen content of the exhaust stream with the oxygen in an ambient air sample,</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or act as a battery cell with two electrodes,</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put voltage is very small,</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ph shows that if air/fuel ratio is very little below or above the proper value of 14.7:1 the voltage output jumps sharply,</a:t>
            </a:r>
            <a:endParaRPr b="0" lang="en-US" sz="2400" spc="-1" strike="noStrike">
              <a:solidFill>
                <a:srgbClr val="ffffff"/>
              </a:solidFill>
              <a:latin typeface="Tahoma"/>
            </a:endParaRPr>
          </a:p>
          <a:p>
            <a:pPr marL="329040" indent="-329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n indicator for microcomputer to activate closed loo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itania Oxygen Sensor</a:t>
            </a:r>
            <a:endParaRPr b="0" lang="en-US" sz="4400" spc="-1" strike="noStrike">
              <a:solidFill>
                <a:srgbClr val="000000"/>
              </a:solidFill>
              <a:latin typeface="Tahoma"/>
            </a:endParaRPr>
          </a:p>
        </p:txBody>
      </p:sp>
      <p:sp>
        <p:nvSpPr>
          <p:cNvPr id="13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variable resis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alue of the resistance changes as the oxygen concentration of the exhaust gas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R changes, the signal voltage at the ECU also change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Zirconium Sesnor, the output voltage changes rapidly if air/fuel ratio is chan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nock Sensor</a:t>
            </a:r>
            <a:endParaRPr b="0" lang="en-US" sz="4400" spc="-1" strike="noStrike">
              <a:solidFill>
                <a:srgbClr val="000000"/>
              </a:solidFill>
              <a:latin typeface="Tahoma"/>
            </a:endParaRPr>
          </a:p>
        </p:txBody>
      </p:sp>
      <p:sp>
        <p:nvSpPr>
          <p:cNvPr id="13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piezoelectric device that produces an output voltage under the vibration,</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plitude and the frequency of vibration varies with the intensity of knock,</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ne type of sensor the highest voltage output occurs around vibration with a frequency of 7 kHz</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variable frequency sensor is fed into EC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titude Sensor</a:t>
            </a:r>
            <a:endParaRPr b="0" lang="en-US" sz="4400" spc="-1" strike="noStrike">
              <a:solidFill>
                <a:srgbClr val="000000"/>
              </a:solidFill>
              <a:latin typeface="Tahoma"/>
            </a:endParaRPr>
          </a:p>
        </p:txBody>
      </p:sp>
      <p:sp>
        <p:nvSpPr>
          <p:cNvPr id="140"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itude is measured based on the oxygen density </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sity of oxygen in the atmosphere is lower at high altitude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sor measures the atmospheric pressure which is a function of density</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higher altitudes the injection duration is short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istory of EFI</a:t>
            </a:r>
            <a:endParaRPr b="0" lang="en-US" sz="4400" spc="-1" strike="noStrike">
              <a:solidFill>
                <a:srgbClr val="000000"/>
              </a:solidFill>
              <a:latin typeface="Tahoma"/>
            </a:endParaRPr>
          </a:p>
        </p:txBody>
      </p:sp>
      <p:sp>
        <p:nvSpPr>
          <p:cNvPr id="95"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buretors are used to mix air and fuel,</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79/80 Toyota introduced EFI,</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991 the carburetor is eliminated,</a:t>
            </a:r>
            <a:endParaRPr b="0" lang="en-US" sz="3200" spc="-1" strike="noStrike">
              <a:solidFill>
                <a:srgbClr val="ffffff"/>
              </a:solidFill>
              <a:latin typeface="Tahoma"/>
            </a:endParaRPr>
          </a:p>
          <a:p>
            <a:pPr marL="318960" indent="-318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sons for switch:</a:t>
            </a:r>
            <a:endParaRPr b="0" lang="en-US" sz="32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emissions control,</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fuel economy,</a:t>
            </a:r>
            <a:endParaRPr b="0" lang="en-US" sz="2800" spc="-1" strike="noStrike">
              <a:solidFill>
                <a:srgbClr val="ffffff"/>
              </a:solidFill>
              <a:latin typeface="Tahoma"/>
            </a:endParaRPr>
          </a:p>
          <a:p>
            <a:pPr lvl="1" marL="690840" indent="-2656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vehicle perform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ow EFI Works?</a:t>
            </a:r>
            <a:endParaRPr b="0" lang="en-US" sz="4400" spc="-1" strike="noStrike">
              <a:solidFill>
                <a:srgbClr val="000000"/>
              </a:solidFill>
              <a:latin typeface="Tahoma"/>
            </a:endParaRPr>
          </a:p>
        </p:txBody>
      </p:sp>
      <p:sp>
        <p:nvSpPr>
          <p:cNvPr id="97"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hree sub-systems in EF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uel delivery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duction syste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onic control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uel Delivery System</a:t>
            </a:r>
            <a:endParaRPr b="0" lang="en-US" sz="4400" spc="-1" strike="noStrike">
              <a:solidFill>
                <a:srgbClr val="000000"/>
              </a:solidFill>
              <a:latin typeface="Tahoma"/>
            </a:endParaRPr>
          </a:p>
        </p:txBody>
      </p:sp>
      <p:sp>
        <p:nvSpPr>
          <p:cNvPr id="99"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tan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um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filte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delivery pipe,</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pressure regulator, an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return pip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ir Induction System</a:t>
            </a:r>
            <a:endParaRPr b="0" lang="en-US" sz="4400" spc="-1" strike="noStrike">
              <a:solidFill>
                <a:srgbClr val="000000"/>
              </a:solidFill>
              <a:latin typeface="Tahoma"/>
            </a:endParaRPr>
          </a:p>
        </p:txBody>
      </p:sp>
      <p:sp>
        <p:nvSpPr>
          <p:cNvPr id="101"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clean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FLOW MET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ttle valv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intake chambe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manifold runner, a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ake val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lectronic Control System</a:t>
            </a:r>
            <a:endParaRPr b="0" lang="en-US" sz="4400" spc="-1" strike="noStrike">
              <a:solidFill>
                <a:srgbClr val="000000"/>
              </a:solidFill>
              <a:latin typeface="Tahoma"/>
            </a:endParaRPr>
          </a:p>
        </p:txBody>
      </p:sp>
      <p:sp>
        <p:nvSpPr>
          <p:cNvPr id="103"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ystem consist of the:</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engine SENSORS,</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nic Control Unit (ECU),</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l injector assemblies, and related wiring</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CU determines precisely how much fuel needs to be delivered by the injector based on the engine SENSORS output. Injector is turned On for the precise amount of time to deliver proper air/fuel ratio to the eng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sic Operation of ECU System</a:t>
            </a:r>
            <a:endParaRPr b="0" lang="en-US" sz="4400" spc="-1" strike="noStrike">
              <a:solidFill>
                <a:srgbClr val="000000"/>
              </a:solidFill>
              <a:latin typeface="Tahoma"/>
            </a:endParaRPr>
          </a:p>
        </p:txBody>
      </p:sp>
      <p:sp>
        <p:nvSpPr>
          <p:cNvPr id="105" name="PlaceHolder 2"/>
          <p:cNvSpPr>
            <a:spLocks noGrp="1"/>
          </p:cNvSpPr>
          <p:nvPr>
            <p:ph/>
          </p:nvPr>
        </p:nvSpPr>
        <p:spPr>
          <a:xfrm>
            <a:off x="126648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ir enters the engine and then measured by the AIR FLOW METE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the air flows into cylinder, fuel is mixed into the air by injector,</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U pulses the injector On and OFF. When it is ON just enough spraying of fuel occurs, to ensure ideal air /fuel ratio 14.7: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3"/>
          <p:cNvSpPr>
            <a:spLocks noGrp="1"/>
          </p:cNvSpPr>
          <p:nvPr>
            <p:ph/>
          </p:nvPr>
        </p:nvSpPr>
        <p:spPr>
          <a:xfrm>
            <a:off x="5229000" y="1981080"/>
            <a:ext cx="3809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CU Control delivers precise amount of fuel  to the engine,</a:t>
            </a:r>
            <a:endParaRPr b="0"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njection quantity depend on variables such as:</a:t>
            </a: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olant temperatur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ine speed (rpm)</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rottle angle,</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haust oxygen cont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vantages of EFI</a:t>
            </a:r>
            <a:endParaRPr b="0" lang="en-US" sz="4400" spc="-1" strike="noStrike">
              <a:solidFill>
                <a:srgbClr val="000000"/>
              </a:solidFill>
              <a:latin typeface="Tahoma"/>
            </a:endParaRPr>
          </a:p>
        </p:txBody>
      </p:sp>
      <p:sp>
        <p:nvSpPr>
          <p:cNvPr id="108"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Air/Fuel Mixture Distribution (each cylinder has its own injector),</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accurate Air/Fuel Ratio Control (better vehicle performance, better fuel economy, and emissions control)</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 throttle respons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Cold Engine Startability Operation (Starting the vehicle at lower temperature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22:22:16Z</dcterms:created>
  <dc:creator>Shahin H.  Berisha</dc:creator>
  <dc:description/>
  <dc:language>en-US</dc:language>
  <cp:lastModifiedBy>Shahin H. Berisha</cp:lastModifiedBy>
  <cp:lastPrinted>1998-05-18T17:18:12Z</cp:lastPrinted>
  <dcterms:modified xsi:type="dcterms:W3CDTF">1998-06-08T00:21:57Z</dcterms:modified>
  <cp:revision>14</cp:revision>
  <dc:subject/>
  <dc:title>Sensors used in EFI (Electronic Fuel Injection)</dc:title>
</cp:coreProperties>
</file>