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350-5C8B-4095-B4F2-41C6C172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00A-A1EF-49DA-842B-701F5DFF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D9E-DEB3-43F8-9418-9676841C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E8A-2228-49BF-8BC4-E5AFF570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284E-9C2F-4CB7-BE5E-67747E44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FFAC-A666-4AAE-BBB4-9481B7C5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A2EF-6EAE-4484-898B-44F99A0F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B17F-8CF8-429E-934D-1E25B6B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88FA-107C-4428-AFF8-486A26F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6564-B641-4752-867D-32556410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02A2-9214-48D5-BC5B-3CA39116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08F-3F98-4FD9-A191-E7982EAB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D4A2-16DA-4999-88B9-308DACAB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21E9-7C81-454F-BD80-168645EF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5E41-5A2F-4BBC-8FFD-426BE812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2BA5-4C97-447C-878F-95315B9B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DD2B-9B2E-4E04-BD61-14B7D9BD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A1B-F998-4B83-A78F-E995E4D3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785-71C8-42C7-886C-7EE394B5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D2C-6DC5-4D2F-B554-6802D4F5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15A-4F98-48CA-B7BA-0545F57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5EF-2861-4DC4-B50E-22B3E0C1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369-518B-42EF-B56B-DBFC335C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5E6-280C-4001-86D8-2EBEF93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6D49-60DA-41A5-B50B-929A6BB15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A80-9260-4353-B2F7-209822CD1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sterfixit.com/crank3.gif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misterfixit.com/crank1.gif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54380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86F-0E37-46E7-BBEE-CB705F769942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ns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Active Speed and Position Sensors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2F6-FD47-41B2-AC7C-999AA8E35C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Sensors (In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  Manifold Absolute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F   Mass Air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   Engine Coolant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T    Intake 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PS   Throttle Posi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SS   Vehicle Speed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2    Exhaust Oxyge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KP   Crankshaft Posi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P  Camshaft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S     Knock or Detona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FA8-353B-488F-AC40-C65FEA00AD29}" type="slidenum">
              <a:t>11</a:t>
            </a:fld>
          </a:p>
        </p:txBody>
      </p:sp>
    </p:spTree>
  </p:cSld>
  <p:transition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nifold Absolute Pressure Sensor (MA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difference between atmospheric pressure and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64832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592-4A76-44F7-9CB5-C8D460DD0D75}" type="slidenum">
              <a:t>12</a:t>
            </a:fld>
          </a:p>
        </p:txBody>
      </p:sp>
    </p:spTree>
  </p:cSld>
  <p:transition>
    <p:cover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ss Air Flow Sensor (MAF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mass of air entering intake manif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200" y="1752480"/>
            <a:ext cx="449748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0A7-0EC7-430B-BE42-B2B8A53C668A}" type="slidenum">
              <a:t>13</a:t>
            </a:fld>
          </a:p>
        </p:txBody>
      </p:sp>
    </p:spTree>
  </p:cSld>
  <p:transition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ottle Position Sensor (TP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rottle angle for P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ically: it’s a potentiome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signal changes as resistance in pot.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4800" y="3084480"/>
            <a:ext cx="518148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B0C-05C1-4677-B29B-E7BECC13DE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gine Coolant Temperature Sensor (EC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engines coolant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 mounted in engines water jac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548640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5EF-958C-48D6-AAF4-EE21E145E3F7}" type="slidenum">
              <a:t>15</a:t>
            </a:fld>
          </a:p>
        </p:txBody>
      </p:sp>
    </p:spTree>
  </p:cSld>
  <p:transition>
    <p:cover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ake Air Temperature (IA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 like CTS -measures - temperature of  intake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intake air tempera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ing the precise control of the A/F ratio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5715000" cy="27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57A-F43C-4590-B77E-089DF4AC4F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ehicle Speed Sensor (VS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VEHICL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GIN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93840" y="105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Vehicle Speed Sensors Offered by Stealth Conversions"/>
          <p:cNvPicPr/>
          <p:nvPr/>
        </p:nvPicPr>
        <p:blipFill>
          <a:blip r:embed="rId2"/>
          <a:stretch/>
        </p:blipFill>
        <p:spPr>
          <a:xfrm>
            <a:off x="0" y="1752480"/>
            <a:ext cx="4495680" cy="37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4F4-CB7F-48EF-B6A5-B4BE07DA0B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xygen Sensor (O2 or HO2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e amount of oxygen in the exhaust str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voltage &lt;.45 is a lean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voltage &gt;.45 is a rich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6 /newer use two O2 sens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2 sensors are heated. ( HO2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2284560"/>
            <a:ext cx="3809880" cy="35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3D4-BF8E-4B67-8F30-ACF59D8151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ankshaft Position Sensor (CK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Notches in cranksha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809880" cy="214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3962520"/>
            <a:ext cx="23162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AF2-953D-4DF2-BEA0-BB6DF18FD7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ypes of 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 fuel injection. (PFI/MPF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ttle Body Fuel Injection. (TB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cal or CIS injection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58 Corvett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el injection (Manu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897-C846-4DA0-8763-49FD211D3034}" type="slidenum">
              <a:t>2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mshaft Position Sensor (CM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9EE-05C9-4E82-AF0C-BB821AE494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nock Sensor (K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es detonation which the engine is run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CM will retard spark when detonation is detec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952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512-B440-419C-B58F-B8453B065B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puter Actuators (Out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Inje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AC Idle Air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Pump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P Canister Pu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R Reg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ling Fan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rque Conver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-Malfunction Indicator L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6D2-1CA1-4E97-9A4E-17C6360B21EB}" type="slidenum">
              <a:t>22</a:t>
            </a:fld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Injection System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chanical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ta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filter and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 or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r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BDC-C187-4CCD-AACD-FBB99389A0F6}" type="slidenum">
              <a:t>3</a:t>
            </a:fld>
          </a:p>
        </p:txBody>
      </p:sp>
    </p:spTree>
  </p:cSld>
  <p:transition>
    <p:pull dir="l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1766880"/>
            <a:ext cx="533412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E75-38C7-4990-8851-7932CD5D07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Filter and Fuel Li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k on gas p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in inj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284796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DEE-A5C1-4A94-8D78-34734022A8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Rail &amp; Pressure Regul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744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il - pipe that fills the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 controls the pressure to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adjusted for changes in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re mechanical but newer cars use an electronic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525780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295-7D63-4BA3-94F9-01422271AD23}" type="slidenum">
              <a:t>6</a:t>
            </a:fld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ically operated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mps fuel to injector from fuel t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s pressure against e injector’s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triggers valve with electrical signal called a pul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pulse wid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49568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567-B017-4B24-8827-5121F659AB09}" type="slidenum">
              <a:t>7</a:t>
            </a:fld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685800"/>
            <a:ext cx="3810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” Ring se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ra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ake manifo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enoid insid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 electrical conn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tle Need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spray e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fuel shoots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3081240"/>
            <a:ext cx="380988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6A0-B273-41DF-8FFD-81F3B1771E7A}" type="slidenum">
              <a:t>8</a:t>
            </a:fld>
          </a:p>
        </p:txBody>
      </p:sp>
    </p:spTree>
  </p:cSld>
  <p:transition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he Injector Fi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mputer grounds the injector to turn i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pulse” -- “Pulse widt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ses timed by crankshaft sensor (CKPS). And/or camshaft sensor (CP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ways to fire the injecto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Gang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Sequential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2D4-A51C-4CFF-8EC4-7AB89A99A4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19:40:53Z</dcterms:created>
  <dc:creator>A satisfied Microsoft Office User</dc:creator>
  <dc:description/>
  <dc:language>en-US</dc:language>
  <cp:lastModifiedBy>HEHS</cp:lastModifiedBy>
  <dcterms:modified xsi:type="dcterms:W3CDTF">2005-10-24T19:43:10Z</dcterms:modified>
  <cp:revision>33</cp:revision>
  <dc:subject/>
  <dc:title>FUEL INJECTION SYSTEMS</dc:title>
</cp:coreProperties>
</file>