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0A8-9605-4AA3-B05D-1B519F3B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6A5-E872-4A7D-AD36-C789FF6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998-B5E0-4CF3-895A-3343126D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6C8-7FC7-4344-9C53-E920B81E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FB3D-F054-4131-8134-076C0ED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313-5DA0-405B-8129-2151722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793-71D6-43A1-A84E-B2E5917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3F93-C51B-4DBB-A0A0-30265F8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0E01-8E3C-4754-88C2-ECB0D4C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C575-32FF-4059-A5C4-675D6EB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1450-447F-4426-AD8B-FD22C49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981-9133-492A-9E98-BD1A236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2C7D-593A-4E46-99C4-BE57E5E9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E7C-F4E5-4765-8EFA-72B1EDF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D6EB-76DF-40D8-B6BB-1DA950D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84A8-4E5E-4BC0-B7FD-DCDD22CD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17CB-7F20-43CD-B88E-991DBE46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FD5-50BC-4002-AF83-87909207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391-63DE-4F80-BFE2-E8B3533B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9C8-ED14-4F7D-9A2D-D961BF0A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1CC-4052-40D9-A524-DC746463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87A-E0DB-4EA1-96AA-77657710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C6A-B364-4639-AAF7-8268A45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C4E-F8EC-48A0-96D1-23CD5D2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505-D100-4A38-BEBE-0F9BB6A8621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B3D-D4DF-4442-AD75-052EB2EC2AB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landers</cp:lastModifiedBy>
  <dcterms:modified xsi:type="dcterms:W3CDTF">2008-06-23T20:46:34Z</dcterms:modified>
  <cp:revision>4</cp:revision>
  <dc:subject/>
  <dc:title>FUEL INJECTOR  DIAGNOSIS</dc:title>
</cp:coreProperties>
</file>