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01D4-7173-4C8E-8280-C9287BDD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99BC-7D05-418B-9492-A82DAB81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1419-00AC-4710-B6E8-B69DE56F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7D68-4639-49A0-8A0D-00E2939F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7963-AD27-4E01-B69B-F747633F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53E4-61D4-46B1-888C-2F139FA8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61DA-4BFF-4E21-8117-66A8D509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0D73-7937-4626-925E-827C1162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6A98-48F1-4A4C-A8E6-7F0FFF04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E1AD-F132-492C-AFF8-642297DD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04BE-F10C-430D-A328-BD3BB535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04BC-D3B9-4BCA-AAC2-6AE91C4F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62C6-E73B-4B11-8198-B0BA730A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2106-B6D6-4256-8C6C-C69A94DB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BA80-ADF8-4D0A-80E1-1DBE53DB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F5C0-EC4B-49AA-B26C-A4FA2FC6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3CAB-E7DD-4AAE-82FE-3DDFF684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7590-BFFC-405A-B39F-AAEF66A8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631F-F2B0-4B54-B09C-62394F52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674A-D677-402F-9B54-66D44227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5B2D-4597-411C-812E-5AEE8DA0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784E-74B2-4288-8FDE-C4D06C74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4847-AA6E-4F55-8174-1FF85F7E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B9C6-2029-429D-9761-35ED5712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4246-B591-4891-AE92-2A543CEE350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D746-1624-4CAC-8C85-73A3F2FA81A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UEL INJECTO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DIAGNOS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41972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OSCH PNP PEAK AND HOLD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ame as NPN but reverse pola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is always grounde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uter sends pulse to energize inj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d on European ca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14240" y="533520"/>
            <a:ext cx="29894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OR DIAGNOS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ust have clean vertical drop on on-time pul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ulse much reach within 600 milli-volts of groun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pikes should be consistent, if not may be power feed to PC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aveforms abnormal - Start a waveform libra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AB PRACTIC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et a car and hook up a lab scope to an fuel injecto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raw the pattern you get and identify the type of injector circu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 sure to measure the amplitude and the pulse width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ION SYSTEMS AND LAB SCOPES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5320" y="2133720"/>
            <a:ext cx="5553360" cy="411480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wo Main Systems for Injector Contr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roup or Bank Inje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roups of injectors fire together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ach driver fires two or more injecto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tial Fuel Inje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jectors fire one at at tim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ach injector has its own driv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ype determines diagnostic metho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OR ELECTRICAL CIRCU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ventional (Mechanical) Current Limi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wo mechanical methods of limiting curr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allast resisto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igh resistance Injecto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aturated Driver Circu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s injectors on and off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9880" y="3045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nventional (Saturated) Switch Injector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jector driver  constantly applies current to the inj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 a single on-time puls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easure from falling edge to rising edg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2529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OR ELECTRICAL CIRCU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LECTRONIC CURRENT LIMI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eak and Hol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uter uses a “Peak Circuit” and a “Hold Circuit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uter turns on both circuits to energize injector - current flow high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s off “Peak Circuit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old Circuit” reduces current flow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s off “Hold Circuit” to end on-tim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AK AND HOLD INJECT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ses two circuits to energize inject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fter initial current flow, one circuit releases and allows second circuit to operate with lower curren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asure on time at falling edge and off time at second spik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8320" y="2357280"/>
            <a:ext cx="3809880" cy="366552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00600" y="3045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NP Inject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NP driver allows reverse pola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river applies current to operate inj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ingle on-time puls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6240" y="380880"/>
            <a:ext cx="2887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667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lse Modulated Peak and Hold Injector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LECTRONIC CURRENT LIMIT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lse Modulate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uter turns injectors 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uter rapidly pulses signal to limit current flow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uter turns injector off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03440" y="609480"/>
            <a:ext cx="3470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5T22:15:00Z</dcterms:created>
  <dc:creator>Vocational Division</dc:creator>
  <dc:description/>
  <dc:language>en-US</dc:language>
  <cp:lastModifiedBy>Flanders</cp:lastModifiedBy>
  <dcterms:modified xsi:type="dcterms:W3CDTF">2008-06-23T20:46:34Z</dcterms:modified>
  <cp:revision>4</cp:revision>
  <dc:subject/>
  <dc:title>FUEL INJECTOR  DIAGNOSIS</dc:title>
</cp:coreProperties>
</file>