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9F242-EF95-4370-A699-7F4672A5F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577F4-2666-4C7E-A6F0-0E66B84C6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5BB72-59A8-414B-A0DD-55908EF1C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43FF4-D8D2-4D2B-8A3F-8BE140A23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03F7E-62E8-423A-8810-AC945D620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1DD3C-0386-406C-9CAF-A10C5A98D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9BC6B-1ADF-42A6-8A21-5FBDE1CCF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F0368-A7F2-4DB9-857C-D6782A84C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C6802-A86B-4B9D-8910-9BED14728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6C86E-9268-4731-B87F-92F300D47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01B21-2458-4E3C-B837-074D9C13E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4C313-2FC8-4E2D-B564-0179DFE82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7CB55-3486-44BE-A415-AFE474728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F8FBE-CA71-4A6F-9506-9F241BC18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5F4CB-2014-44A9-A001-CFBA864FB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C8B95-C24A-4D8D-88BE-DCD067832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144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144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24FF7-AD87-4F5A-B0C2-FD911709B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C165B-F1B8-4052-8795-C4A51A40A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7F859-DA3D-4B8C-A378-519567438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629E6-78C5-4163-A1D4-3A3E17D97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E2CA6-EC21-4BA1-B869-209C6A63D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96A7B-698F-4F25-8DE3-915DAC159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BC07B-2292-462D-B93A-E5A5C6112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AF3EF-2986-45C2-A5C3-6B5BD79D6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1440"/>
            <a:ext cx="9144000" cy="6859440"/>
            <a:chOff x="0" y="-1440"/>
            <a:chExt cx="9144000" cy="6859440"/>
          </a:xfrm>
        </p:grpSpPr>
        <p:sp>
          <p:nvSpPr>
            <p:cNvPr id="1" name=""/>
            <p:cNvSpPr/>
            <p:nvPr/>
          </p:nvSpPr>
          <p:spPr>
            <a:xfrm>
              <a:off x="0" y="1371600"/>
              <a:ext cx="9144000" cy="548640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6548400"/>
              <a:ext cx="9144000" cy="30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-1440"/>
              <a:ext cx="9144000" cy="1611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0" y="1609560"/>
              <a:ext cx="9144000" cy="414000"/>
              <a:chOff x="0" y="1609560"/>
              <a:chExt cx="9144000" cy="414000"/>
            </a:xfrm>
          </p:grpSpPr>
          <p:sp>
            <p:nvSpPr>
              <p:cNvPr id="5" name=""/>
              <p:cNvSpPr/>
              <p:nvPr/>
            </p:nvSpPr>
            <p:spPr>
              <a:xfrm>
                <a:off x="0" y="1609560"/>
                <a:ext cx="9144000" cy="103680"/>
              </a:xfrm>
              <a:prstGeom prst="rect">
                <a:avLst/>
              </a:pr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1713240"/>
                <a:ext cx="9144000" cy="103320"/>
              </a:xfrm>
              <a:prstGeom prst="rect">
                <a:avLst/>
              </a:prstGeom>
              <a:solidFill>
                <a:srgbClr val="a50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1816560"/>
                <a:ext cx="9144000" cy="10368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1920240"/>
                <a:ext cx="9144000" cy="103320"/>
              </a:xfrm>
              <a:prstGeom prst="rect">
                <a:avLst/>
              </a:prstGeom>
              <a:solidFill>
                <a:srgbClr val="99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a50021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80008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80008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B9ED4-7FD7-4288-BC61-6CC3911CEE45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-1440"/>
            <a:ext cx="9144000" cy="6859440"/>
            <a:chOff x="0" y="-1440"/>
            <a:chExt cx="9144000" cy="6859440"/>
          </a:xfrm>
        </p:grpSpPr>
        <p:sp>
          <p:nvSpPr>
            <p:cNvPr id="51" name=""/>
            <p:cNvSpPr/>
            <p:nvPr/>
          </p:nvSpPr>
          <p:spPr>
            <a:xfrm>
              <a:off x="0" y="2895480"/>
              <a:ext cx="9144000" cy="396252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6548400"/>
              <a:ext cx="9144000" cy="30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-1440"/>
              <a:ext cx="9144000" cy="3201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3200400"/>
              <a:ext cx="9144000" cy="414000"/>
              <a:chOff x="0" y="3200400"/>
              <a:chExt cx="9144000" cy="414000"/>
            </a:xfrm>
          </p:grpSpPr>
          <p:sp>
            <p:nvSpPr>
              <p:cNvPr id="55" name=""/>
              <p:cNvSpPr/>
              <p:nvPr/>
            </p:nvSpPr>
            <p:spPr>
              <a:xfrm>
                <a:off x="0" y="3200400"/>
                <a:ext cx="9144000" cy="103680"/>
              </a:xfrm>
              <a:prstGeom prst="rect">
                <a:avLst/>
              </a:pr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0" y="3304080"/>
                <a:ext cx="9144000" cy="103320"/>
              </a:xfrm>
              <a:prstGeom prst="rect">
                <a:avLst/>
              </a:prstGeom>
              <a:solidFill>
                <a:srgbClr val="a50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3407400"/>
                <a:ext cx="9144000" cy="10368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511080"/>
                <a:ext cx="9144000" cy="103320"/>
              </a:xfrm>
              <a:prstGeom prst="rect">
                <a:avLst/>
              </a:prstGeom>
              <a:solidFill>
                <a:srgbClr val="99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1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B1BD6-276B-475E-AA04-8E3E143B32FA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80008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800080"/>
              </a:buClr>
              <a:buFont typeface="Arial Black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1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FUEL INJECTOR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 DIAGNOSI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HAPTER 11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LAB MANUA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419720" y="304560"/>
            <a:ext cx="403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BOSCH PNP PEAK AND HOLD 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4796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Same as NPN but reverse polarit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35880" indent="-335880">
              <a:spcBef>
                <a:spcPts val="70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ircuit is always grounded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35880" indent="-335880">
              <a:spcBef>
                <a:spcPts val="70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mputer sends pulse to energize injector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35880" indent="-335880">
              <a:spcBef>
                <a:spcPts val="70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Used on European car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4" name="INJ_BPNP" descr=""/>
          <p:cNvPicPr/>
          <p:nvPr/>
        </p:nvPicPr>
        <p:blipFill>
          <a:blip r:embed="rId1"/>
          <a:stretch/>
        </p:blipFill>
        <p:spPr>
          <a:xfrm>
            <a:off x="714240" y="533520"/>
            <a:ext cx="298944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INJECTOR DIAGNOSI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Must have clean vertical drop on on-time pulse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25800" indent="-325800">
              <a:spcBef>
                <a:spcPts val="799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Pulse much reach within 600 milli-volts of ground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25800" indent="-325800">
              <a:spcBef>
                <a:spcPts val="799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pikes should be consistent, if not may be power feed to PCM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25800" indent="-325800">
              <a:spcBef>
                <a:spcPts val="799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Waveforms abnormal - Start a waveform librar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LAB PRACTICA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Get a car and hook up a lab scope to an fuel injector.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raw the pattern you get and identify the type of injector circui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Be sure to measure the amplitude and the pulse width.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INJECTION SYSTEMS AND LAB SCOPES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03" name="TEXTRONX" descr=""/>
          <p:cNvPicPr/>
          <p:nvPr/>
        </p:nvPicPr>
        <p:blipFill>
          <a:blip r:embed="rId1"/>
          <a:stretch/>
        </p:blipFill>
        <p:spPr>
          <a:xfrm>
            <a:off x="1795320" y="2133720"/>
            <a:ext cx="5553360" cy="4114800"/>
          </a:xfrm>
          <a:prstGeom prst="rect">
            <a:avLst/>
          </a:prstGeom>
          <a:ln w="76320">
            <a:solidFill>
              <a:srgbClr val="800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Two Main Systems for Injector Control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Group or Bank Injection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Groups of injectors fire together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Each driver fires two or more injector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quential Fuel Injection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jectors fire one at at tim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Each injector has its own driver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ype determines diagnostic method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INJECTOR ELECTRICAL CIRCUIT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onventional (Mechanical) Current Limiting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wo mechanical methods of limiting curren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Ballast resistor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High resistance Injector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Saturated Driver Circui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Turns injectors on and off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9880" y="304560"/>
            <a:ext cx="464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Conventional (Saturated) Switch Injector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64796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jector driver  constantly applies current to the injector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Use a single on-time puls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Measure from falling edge to rising edg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0" name="INJ_B" descr=""/>
          <p:cNvPicPr/>
          <p:nvPr/>
        </p:nvPicPr>
        <p:blipFill>
          <a:blip r:embed="rId1"/>
          <a:stretch/>
        </p:blipFill>
        <p:spPr>
          <a:xfrm>
            <a:off x="457200" y="380880"/>
            <a:ext cx="325296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INJECTOR ELECTRICAL CIRCUIT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ELECTRONIC CURRENT LIMITING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eak and Hold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omputer uses a “Peak Circuit” and a “Hold Circuit”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omputer turns on both circuits to energize injector - current flow high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Turns off “Peak Circuit”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Hold Circuit” reduces current flow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Turns off “Hold Circuit” to end on-time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PEAK AND HOLD INJECTOR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Uses two circuits to energize injector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29040" indent="-329040">
              <a:spcBef>
                <a:spcPts val="6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After initial current flow, one circuit releases and allows second circuit to operate with lower current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29040" indent="-329040">
              <a:spcBef>
                <a:spcPts val="6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Measure on time at falling edge and off time at second spike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INJP&amp;H1" descr=""/>
          <p:cNvPicPr/>
          <p:nvPr/>
        </p:nvPicPr>
        <p:blipFill>
          <a:blip r:embed="rId1"/>
          <a:stretch/>
        </p:blipFill>
        <p:spPr>
          <a:xfrm>
            <a:off x="4648320" y="2357280"/>
            <a:ext cx="3809880" cy="3665520"/>
          </a:xfrm>
          <a:prstGeom prst="rect">
            <a:avLst/>
          </a:prstGeom>
          <a:ln w="57240">
            <a:solidFill>
              <a:srgbClr val="800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800600" y="304560"/>
            <a:ext cx="3657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PNP Injector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4796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NP driver allows reverse polarit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river applies current to operate injector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Single on-time puls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8" name="INJ_JEEP" descr=""/>
          <p:cNvPicPr/>
          <p:nvPr/>
        </p:nvPicPr>
        <p:blipFill>
          <a:blip r:embed="rId1"/>
          <a:stretch/>
        </p:blipFill>
        <p:spPr>
          <a:xfrm>
            <a:off x="1146240" y="380880"/>
            <a:ext cx="28875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266720" y="304560"/>
            <a:ext cx="487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Pulse Modulated Peak and Hold Injector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64796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ELECTRONIC CURRENT LIMIT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a50021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Pulse Modulated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2" marL="1143000" indent="-228600">
              <a:spcBef>
                <a:spcPts val="499"/>
              </a:spcBef>
              <a:buClr>
                <a:srgbClr val="80008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omputer turns injectors on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lvl="2" marL="1143000" indent="-228600">
              <a:spcBef>
                <a:spcPts val="499"/>
              </a:spcBef>
              <a:buClr>
                <a:srgbClr val="80008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omputer rapidly pulses signal to limit current flow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lvl="2" marL="1143000" indent="-228600">
              <a:spcBef>
                <a:spcPts val="499"/>
              </a:spcBef>
              <a:buClr>
                <a:srgbClr val="80008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omputer turns injector off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INJ_BP-H" descr=""/>
          <p:cNvPicPr/>
          <p:nvPr/>
        </p:nvPicPr>
        <p:blipFill>
          <a:blip r:embed="rId1"/>
          <a:stretch/>
        </p:blipFill>
        <p:spPr>
          <a:xfrm>
            <a:off x="703440" y="609480"/>
            <a:ext cx="347004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5T22:15:00Z</dcterms:created>
  <dc:creator>Vocational Division</dc:creator>
  <dc:description/>
  <dc:language>en-US</dc:language>
  <cp:lastModifiedBy>frichj</cp:lastModifiedBy>
  <dcterms:modified xsi:type="dcterms:W3CDTF">1998-10-26T02:44:12Z</dcterms:modified>
  <cp:revision>2</cp:revision>
  <dc:subject/>
  <dc:title>FUEL INJECTOR  DIAGNOSIS</dc:title>
</cp:coreProperties>
</file>